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AC5-633E-4B32-B43B-99AC9B2D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9DA-8D47-4B72-BCD2-F983175A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E04-9B5E-4836-A0B1-7F2D81EB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FDA-2699-4E99-8327-0DA6977A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E78C-4177-4D77-A555-DC54B2D2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FF89-1F92-44D7-A6F1-8F25A0D7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7890-8883-4E97-AFB2-5AD5A242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70AF-7569-4A2E-966E-1F5C382D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69C1-3C1E-46C6-8020-C1607A21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4855-817C-4B6C-B6F2-2E5A9441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C7A9-CDEB-4BB3-86C2-EF962245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AF8-6E6B-4633-BE8F-4524E0D6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B012-633E-406A-97E4-7E485A55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05A1-B970-466F-A42A-E3E47463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6472-47FE-44F7-936F-05F81F5E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9C30-D8A9-4D88-A92B-53011283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3D46-558F-4CB9-948A-FA9D2D2E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533-8C74-4931-8DB3-E2F9AF2E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1D0-D4C4-4F9D-8781-C29F5BA6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E80-854B-417E-98A8-EBA827DE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55C-23A9-45DF-B55F-5C663073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BEE-8DF1-4BAC-AC2A-2A992E22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724-3343-43BF-8126-178494E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B54-95AF-4689-8073-5F9FBFB2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4360" y="1415880"/>
            <a:ext cx="1784160" cy="2324160"/>
            <a:chOff x="414360" y="1415880"/>
            <a:chExt cx="1784160" cy="2324160"/>
          </a:xfrm>
        </p:grpSpPr>
        <p:sp>
          <p:nvSpPr>
            <p:cNvPr id="57" name=""/>
            <p:cNvSpPr/>
            <p:nvPr/>
          </p:nvSpPr>
          <p:spPr>
            <a:xfrm flipH="1">
              <a:off x="414360" y="1513440"/>
              <a:ext cx="17841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00" y="141912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11200" y="141588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9EBD-CE12-4F60-8077-91F721B1E842}" type="slidenum">
              <a:rPr b="0" lang="en-US" sz="1200" spc="-1" strike="noStrike">
                <a:solidFill>
                  <a:srgbClr val="40458c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3388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624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E062-2EC9-4A41-9C8A-4924514AEF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14200" y="692280"/>
          <a:ext cx="4357800" cy="29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692280"/>
                    <a:ext cx="4357800" cy="29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-45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Arial Narrow"/>
              </a:rPr>
              <a:t>Local Buckling of Beam Lower Flanges</a:t>
            </a:r>
            <a:endParaRPr b="0" lang="en-US" sz="36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716360" y="2205000"/>
            <a:ext cx="4176720" cy="291636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1403280" y="1773360"/>
            <a:ext cx="4730760" cy="1807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-24300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58920" y="2852640"/>
            <a:ext cx="863640" cy="574560"/>
            <a:chOff x="1258920" y="2852640"/>
            <a:chExt cx="863640" cy="574560"/>
          </a:xfrm>
        </p:grpSpPr>
        <p:sp>
          <p:nvSpPr>
            <p:cNvPr id="216" name=""/>
            <p:cNvSpPr/>
            <p:nvPr/>
          </p:nvSpPr>
          <p:spPr>
            <a:xfrm>
              <a:off x="1258920" y="2852640"/>
              <a:ext cx="86364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122560" y="313992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715-9169-47F9-9028-088D9BCC113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2560" y="-1004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-24300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34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 rot="10800000">
            <a:off x="6218280" y="1671120"/>
            <a:ext cx="355680" cy="33195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6218280" y="1671480"/>
            <a:ext cx="355680" cy="331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95040" y="511668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2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95040" y="133524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7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692760" y="1671480"/>
            <a:ext cx="1800" cy="3319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92760" y="499104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92760" y="48610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92760" y="4724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92760" y="4592520"/>
            <a:ext cx="1191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30360" y="45054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92760" y="446256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692760" y="432576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92760" y="41958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692760" y="405936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92760" y="392904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30360" y="38401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92760" y="37972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92760" y="36608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2760" y="35305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92760" y="340056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692760" y="3263760"/>
            <a:ext cx="1191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0360" y="3174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92760" y="313200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692760" y="30020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92760" y="28656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92760" y="27352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692760" y="260352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930360" y="25160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692760" y="24670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92760" y="233676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692760" y="220032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207000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92760" y="194004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30360" y="18511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692760" y="180324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92760" y="16714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632640" y="1671120"/>
            <a:ext cx="1440" cy="3319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5280" y="1197000"/>
            <a:ext cx="701028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00360" y="2492280"/>
            <a:ext cx="1942920" cy="18734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AAC-4A37-4980-89D0-762BCB60E3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560" y="-1004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36" name=""/>
          <p:cNvSpPr/>
          <p:nvPr/>
        </p:nvSpPr>
        <p:spPr>
          <a:xfrm>
            <a:off x="971640" y="-24300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35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 rot="10800000">
            <a:off x="6218280" y="1671120"/>
            <a:ext cx="355680" cy="331956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6218280" y="1671480"/>
            <a:ext cx="355680" cy="331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395040" y="511668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6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395040" y="133524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71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92760" y="1671480"/>
            <a:ext cx="1800" cy="3319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92760" y="499104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92760" y="48610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92760" y="4724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692760" y="45925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92760" y="446256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930360" y="4375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92760" y="432576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92760" y="41958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92760" y="405936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92760" y="39290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92760" y="379728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930360" y="37101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92760" y="36608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692760" y="35305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92760" y="340056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92760" y="326376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692760" y="3132000"/>
            <a:ext cx="1191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930360" y="30448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692760" y="30020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760" y="28656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92760" y="27352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92760" y="260352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92760" y="246708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930360" y="2379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92760" y="233676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92760" y="220032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692760" y="207000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692760" y="19400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692760" y="1803240"/>
            <a:ext cx="1191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930360" y="17146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692760" y="16714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6632640" y="1671120"/>
            <a:ext cx="1440" cy="3319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5280" y="1197000"/>
            <a:ext cx="701028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700360" y="2492280"/>
            <a:ext cx="1942920" cy="18734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51D-5A38-46A1-8217-D8F039DA49F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1042920" y="-100080"/>
            <a:ext cx="810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71640" y="-24300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65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5280" y="1197000"/>
            <a:ext cx="70437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84360" y="2997360"/>
            <a:ext cx="1943280" cy="187308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 rot="10800000">
            <a:off x="6195960" y="1668240"/>
            <a:ext cx="355680" cy="32986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6195960" y="1668600"/>
            <a:ext cx="355680" cy="3298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73080" y="509112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75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3080" y="133200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89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670800" y="1668600"/>
            <a:ext cx="1440" cy="3298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670800" y="496728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06600" y="48783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70800" y="47307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670800" y="44956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670800" y="425916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670800" y="40226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70800" y="378792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906600" y="36990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670800" y="35514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670800" y="3321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670800" y="30844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70800" y="28494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70800" y="2612880"/>
            <a:ext cx="117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906600" y="25239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70800" y="237636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670800" y="21416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670800" y="19051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670800" y="16686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610320" y="1828800"/>
            <a:ext cx="1440" cy="3138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5280" y="1197000"/>
            <a:ext cx="6985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EC7-0BD8-4691-BD15-499682A1EDE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42560" y="-1004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20" name=""/>
          <p:cNvSpPr/>
          <p:nvPr/>
        </p:nvSpPr>
        <p:spPr>
          <a:xfrm>
            <a:off x="971640" y="-24300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92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4"/>
          <a:stretch/>
        </p:blipFill>
        <p:spPr>
          <a:xfrm rot="10800000">
            <a:off x="6245280" y="1673280"/>
            <a:ext cx="358560" cy="33336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6245280" y="1673280"/>
            <a:ext cx="358560" cy="333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23840" y="513252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9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423840" y="133524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97,1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23000" y="1673280"/>
            <a:ext cx="1800" cy="333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723000" y="5006880"/>
            <a:ext cx="58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723000" y="4844880"/>
            <a:ext cx="119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960600" y="47563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23000" y="4684680"/>
            <a:ext cx="58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23000" y="4524480"/>
            <a:ext cx="5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23000" y="4362480"/>
            <a:ext cx="5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23000" y="4202280"/>
            <a:ext cx="5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23000" y="4040280"/>
            <a:ext cx="119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60600" y="39513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23000" y="3879720"/>
            <a:ext cx="58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23000" y="3719520"/>
            <a:ext cx="5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23000" y="3557520"/>
            <a:ext cx="58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23000" y="3397320"/>
            <a:ext cx="5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23000" y="3235320"/>
            <a:ext cx="119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960600" y="31464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3075120"/>
            <a:ext cx="5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23000" y="2914560"/>
            <a:ext cx="58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23000" y="2752560"/>
            <a:ext cx="58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23000" y="2592360"/>
            <a:ext cx="5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23000" y="2430360"/>
            <a:ext cx="119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60600" y="23414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23000" y="2270160"/>
            <a:ext cx="5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23000" y="2109960"/>
            <a:ext cx="5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23000" y="1947960"/>
            <a:ext cx="5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23000" y="1787400"/>
            <a:ext cx="58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6662880" y="1673280"/>
            <a:ext cx="1440" cy="333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5280" y="1197000"/>
            <a:ext cx="70437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484360" y="2997360"/>
            <a:ext cx="1943280" cy="187308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7D2-9165-4924-925C-2744A254FDA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 Narrow"/>
              </a:rPr>
              <a:t>Column</a:t>
            </a:r>
            <a:r>
              <a:rPr b="1" lang="en-GB" sz="4000" spc="-1" strike="noStrike">
                <a:solidFill>
                  <a:srgbClr val="660066"/>
                </a:solidFill>
                <a:latin typeface="Arial Narrow"/>
              </a:rPr>
              <a:t> Flange Buckling</a:t>
            </a:r>
            <a:endParaRPr b="0" lang="en-US" sz="40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2484360" y="1989000"/>
            <a:ext cx="2808360" cy="2592360"/>
          </a:xfrm>
          <a:prstGeom prst="ellipse">
            <a:avLst/>
          </a:prstGeom>
          <a:noFill/>
          <a:ln w="57240">
            <a:solidFill>
              <a:srgbClr val="ff2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004-9B53-4D64-AB33-446241D10E3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042920" y="-100080"/>
            <a:ext cx="810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26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00360" y="2492280"/>
            <a:ext cx="1942920" cy="18734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1197000"/>
            <a:ext cx="700740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197000"/>
            <a:ext cx="6985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1197000"/>
            <a:ext cx="7056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 rot="10800000">
            <a:off x="6195960" y="1668240"/>
            <a:ext cx="355680" cy="3298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195960" y="1668600"/>
            <a:ext cx="355680" cy="3298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73080" y="509112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25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73080" y="133200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5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70800" y="1668600"/>
            <a:ext cx="1440" cy="3298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70800" y="496728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06600" y="48783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70800" y="480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70800" y="46371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70800" y="447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70800" y="43070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70800" y="414180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06600" y="40528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70800" y="397656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70800" y="38098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70800" y="3645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70800" y="347976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70800" y="331488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06600" y="32259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70800" y="31561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70800" y="29908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70800" y="28256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70800" y="26607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70800" y="249552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06600" y="2406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70800" y="2330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70800" y="21654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70800" y="19987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70800" y="18334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70800" y="166860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06600" y="15796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610320" y="1668240"/>
            <a:ext cx="1440" cy="3298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354-ACCE-4FEC-8830-42D683BDFC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042920" y="-100080"/>
            <a:ext cx="810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27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00360" y="2492280"/>
            <a:ext cx="1942920" cy="18734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1197000"/>
            <a:ext cx="700740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1197000"/>
            <a:ext cx="6985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1197000"/>
            <a:ext cx="7056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 rot="10800000">
            <a:off x="6195960" y="1668240"/>
            <a:ext cx="355680" cy="32986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195960" y="1668600"/>
            <a:ext cx="355680" cy="3298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73080" y="509112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275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73080" y="133200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75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0800" y="1668600"/>
            <a:ext cx="1440" cy="3298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0" y="48848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70800" y="471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70800" y="4554360"/>
            <a:ext cx="117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06600" y="44658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70800" y="43894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70800" y="42242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70800" y="40593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70800" y="38941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70800" y="372744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06600" y="36399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70800" y="35622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70800" y="3397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70800" y="3238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70800" y="30733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70800" y="290844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06600" y="28195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70800" y="2743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70800" y="257796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70800" y="24130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0800" y="2247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70800" y="208296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06600" y="19940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70800" y="19162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70800" y="17510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610320" y="1668240"/>
            <a:ext cx="1440" cy="3298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658-783D-45A3-A05A-615ACD470F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042920" y="-100080"/>
            <a:ext cx="810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28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00360" y="2492280"/>
            <a:ext cx="1942920" cy="18734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1197000"/>
            <a:ext cx="700740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1197000"/>
            <a:ext cx="6985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 rot="10800000">
            <a:off x="6227280" y="1699920"/>
            <a:ext cx="358920" cy="32986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227640" y="1700280"/>
            <a:ext cx="358920" cy="329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6200" y="512280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0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06200" y="136368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0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05720" y="1700280"/>
            <a:ext cx="1440" cy="32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4998960"/>
            <a:ext cx="11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44760" y="49100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5720" y="483408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05720" y="466884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5720" y="4503600"/>
            <a:ext cx="60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05720" y="433872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4173480"/>
            <a:ext cx="11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4760" y="40845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400860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05720" y="384192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05720" y="367668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05720" y="3511440"/>
            <a:ext cx="60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5720" y="3346560"/>
            <a:ext cx="118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4760" y="32576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318780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05720" y="3022560"/>
            <a:ext cx="60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05720" y="285768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269244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2527200"/>
            <a:ext cx="11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4760" y="24382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05720" y="236232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05720" y="219708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2030400"/>
            <a:ext cx="6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1865160"/>
            <a:ext cx="60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1700280"/>
            <a:ext cx="118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44760" y="16113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645240" y="1699920"/>
            <a:ext cx="1800" cy="32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1197000"/>
            <a:ext cx="7056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07E-0248-428A-8B90-3037D4E605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042920" y="-100080"/>
            <a:ext cx="810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-24300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29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00360" y="2492280"/>
            <a:ext cx="1942920" cy="18734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1197000"/>
            <a:ext cx="700740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 rot="10800000">
            <a:off x="6195960" y="1668240"/>
            <a:ext cx="355680" cy="32986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195960" y="1668600"/>
            <a:ext cx="355680" cy="3298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73080" y="509112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0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73080" y="133200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2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70800" y="1668600"/>
            <a:ext cx="1440" cy="3298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70800" y="496728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06600" y="48783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70800" y="481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70800" y="4665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70800" y="4518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70800" y="43657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70800" y="421812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06600" y="4129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70800" y="40705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70800" y="3916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70800" y="37688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70800" y="36162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70800" y="3468600"/>
            <a:ext cx="117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06600" y="33796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70800" y="33148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70800" y="3166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70800" y="30193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70800" y="28670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70800" y="2719440"/>
            <a:ext cx="117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06600" y="26305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70800" y="256536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70800" y="24177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70800" y="22701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70800" y="21178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70800" y="1969920"/>
            <a:ext cx="117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06600" y="18813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70800" y="1816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70800" y="16686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610320" y="1668240"/>
            <a:ext cx="1440" cy="3298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5280" y="1197000"/>
            <a:ext cx="6985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3EF-791B-4AB4-9EE4-B6512859AF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042920" y="-100080"/>
            <a:ext cx="810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71640" y="-24300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30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00360" y="2492280"/>
            <a:ext cx="1942920" cy="18734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 rot="10800000">
            <a:off x="6215040" y="1671120"/>
            <a:ext cx="355680" cy="33181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6215040" y="1671480"/>
            <a:ext cx="355680" cy="331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92160" y="511488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7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92160" y="133524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2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89880" y="1671480"/>
            <a:ext cx="1440" cy="3318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89880" y="498960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89880" y="485928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89880" y="472284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689880" y="4592520"/>
            <a:ext cx="11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27120" y="4503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89880" y="446076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89880" y="432432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89880" y="419400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689880" y="405756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89880" y="3927600"/>
            <a:ext cx="118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27120" y="38386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89880" y="379728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89880" y="366084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89880" y="352908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89880" y="339876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89880" y="3262320"/>
            <a:ext cx="118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27120" y="3174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89880" y="313200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89880" y="300204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89880" y="286560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89880" y="273384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89880" y="2603520"/>
            <a:ext cx="118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27120" y="25160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89880" y="246708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89880" y="233676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89880" y="220032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89880" y="207000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89880" y="1938240"/>
            <a:ext cx="11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27120" y="18511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89880" y="180180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689880" y="167148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630840" y="1861920"/>
            <a:ext cx="1800" cy="3127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5280" y="1197000"/>
            <a:ext cx="700740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DE7-BAE3-4B15-9D1C-EB18E7246F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-1004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971640" y="-24300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31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700360" y="2492280"/>
            <a:ext cx="1942920" cy="18734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4"/>
          <a:stretch/>
        </p:blipFill>
        <p:spPr>
          <a:xfrm rot="10800000">
            <a:off x="6215040" y="1671120"/>
            <a:ext cx="355680" cy="33181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6215040" y="1671480"/>
            <a:ext cx="355680" cy="331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92160" y="511488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7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92160" y="133524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2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89880" y="1671480"/>
            <a:ext cx="1440" cy="3318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89880" y="498960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689880" y="485928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89880" y="472284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689880" y="4592520"/>
            <a:ext cx="11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27120" y="4503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689880" y="446076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89880" y="432432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89880" y="419400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89880" y="405756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89880" y="3927600"/>
            <a:ext cx="118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27120" y="38386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89880" y="379728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89880" y="366084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89880" y="352908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689880" y="339876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689880" y="3262320"/>
            <a:ext cx="118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27120" y="3174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89880" y="313200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689880" y="300204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89880" y="286560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89880" y="273384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89880" y="2603520"/>
            <a:ext cx="118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927120" y="25160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89880" y="246708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689880" y="233676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689880" y="220032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89880" y="207000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89880" y="1938240"/>
            <a:ext cx="11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927120" y="18511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689880" y="1801800"/>
            <a:ext cx="60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89880" y="1671480"/>
            <a:ext cx="6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630840" y="1861920"/>
            <a:ext cx="1800" cy="3127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280" y="1197000"/>
            <a:ext cx="700740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9FE-4F57-4DF1-81D5-24D4C58920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42560" y="-1004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971640" y="-24300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32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 rot="10800000">
            <a:off x="6218280" y="1671120"/>
            <a:ext cx="355680" cy="33195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218280" y="1671480"/>
            <a:ext cx="355680" cy="331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95040" y="511668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3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95040" y="133524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8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92760" y="1671480"/>
            <a:ext cx="1800" cy="3319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92760" y="499104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692760" y="48610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92760" y="4724280"/>
            <a:ext cx="1191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30360" y="46353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92760" y="45925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92760" y="446256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432576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92760" y="41958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92760" y="405936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30360" y="39704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92760" y="39290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92760" y="37972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92760" y="36608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92760" y="35305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692760" y="340056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930360" y="33116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92760" y="326376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92760" y="313200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92760" y="30020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92760" y="28656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92760" y="273528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30360" y="26463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92760" y="260352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92760" y="24670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92760" y="233676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92760" y="220032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92760" y="2070000"/>
            <a:ext cx="1191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0360" y="1981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92760" y="19400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92760" y="180324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92760" y="16714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6632640" y="1671120"/>
            <a:ext cx="1440" cy="3319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95280" y="1197000"/>
            <a:ext cx="701028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00360" y="2492280"/>
            <a:ext cx="1942920" cy="18734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F15-7C3F-4DF0-9D40-83A057328A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2560" y="-1004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Local Buckling by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T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hermo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-I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maging </a:t>
            </a:r>
            <a:r>
              <a:rPr b="1" lang="cs-CZ" sz="3200" spc="-1" strike="noStrike">
                <a:solidFill>
                  <a:srgbClr val="660066"/>
                </a:solidFill>
                <a:latin typeface="Arial Narrow"/>
              </a:rPr>
              <a:t>C</a:t>
            </a:r>
            <a:r>
              <a:rPr b="1" lang="en-GB" sz="3200" spc="-1" strike="noStrike">
                <a:solidFill>
                  <a:srgbClr val="660066"/>
                </a:solidFill>
                <a:latin typeface="Arial Narrow"/>
              </a:rPr>
              <a:t>amera</a:t>
            </a:r>
            <a:endParaRPr b="0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40" name=""/>
          <p:cNvSpPr/>
          <p:nvPr/>
        </p:nvSpPr>
        <p:spPr>
          <a:xfrm>
            <a:off x="971640" y="-24300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5280" y="119700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fter 33 min. of fi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342200" y="1197000"/>
          <a:ext cx="180180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2200" y="1197000"/>
                    <a:ext cx="18018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 flipH="1" flipV="1">
            <a:off x="7956720" y="1557360"/>
            <a:ext cx="504720" cy="43344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16360" y="6021360"/>
            <a:ext cx="56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r>
              <a:rPr b="0" lang="en-GB" sz="2400" spc="-1" strike="noStrike">
                <a:solidFill>
                  <a:srgbClr val="000066"/>
                </a:solidFill>
                <a:latin typeface="Arial Narrow"/>
              </a:rPr>
              <a:t>cale of colours on figures is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00720" y="5444640"/>
            <a:ext cx="287280" cy="505080"/>
          </a:xfrm>
          <a:prstGeom prst="line">
            <a:avLst/>
          </a:prstGeom>
          <a:ln w="19080">
            <a:solidFill>
              <a:srgbClr val="ff2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 rot="10800000">
            <a:off x="6218280" y="1671120"/>
            <a:ext cx="355680" cy="33195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6218280" y="1671480"/>
            <a:ext cx="355680" cy="331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95040" y="511668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4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95040" y="133524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90,0°C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92760" y="1671480"/>
            <a:ext cx="1800" cy="3319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692760" y="499104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92760" y="486108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30360" y="47721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92760" y="4724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692760" y="45925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92760" y="446256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92760" y="432576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92760" y="419580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0360" y="41068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92760" y="405936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92760" y="39290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92760" y="37972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92760" y="36608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92760" y="3530520"/>
            <a:ext cx="1191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930360" y="3441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92760" y="340056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92760" y="326376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92760" y="313200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92760" y="30020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92760" y="286560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30360" y="27781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92760" y="27352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92760" y="260352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92760" y="246708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92760" y="233676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92760" y="2200320"/>
            <a:ext cx="11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30360" y="211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92760" y="207000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92760" y="194004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92760" y="180324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92760" y="16714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632640" y="1671120"/>
            <a:ext cx="1440" cy="3319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5280" y="1197000"/>
            <a:ext cx="701028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00360" y="2492280"/>
            <a:ext cx="1942920" cy="18734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4E1-53D7-46D7-8136-EA0BF74718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19:49:41Z</dcterms:created>
  <dc:creator>wald</dc:creator>
  <dc:description/>
  <dc:language>en-US</dc:language>
  <cp:lastModifiedBy>wald</cp:lastModifiedBy>
  <dcterms:modified xsi:type="dcterms:W3CDTF">2004-09-20T14:02:07Z</dcterms:modified>
  <cp:revision>195</cp:revision>
  <dc:subject/>
  <dc:title>Prezentace aplikace PowerPoint</dc:title>
</cp:coreProperties>
</file>