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1.png" ContentType="image/png"/>
  <Override PartName="/ppt/media/image10.png" ContentType="image/png"/>
  <Override PartName="/ppt/media/image45.png" ContentType="image/png"/>
  <Override PartName="/ppt/media/image5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5.png" ContentType="image/png"/>
  <Override PartName="/ppt/media/image46.wmf" ContentType="image/x-wmf"/>
  <Override PartName="/ppt/media/image39.png" ContentType="image/png"/>
  <Override PartName="/ppt/media/image9.png" ContentType="image/png"/>
  <Override PartName="/ppt/media/image1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189-1DFC-490B-8917-66A6A285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0E8-B862-4F57-9B2E-C4D421AA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2A6-5B1B-4E2B-A191-947B9736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D44-C7DD-4253-9A32-2E3A7863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04B0-611A-4301-9297-CD474A10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07A8-755A-476C-BAD2-DAC2E5BF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59C4-DB69-4BDB-9E0D-5258C968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8215-7B8E-4C21-8CDE-5A84909C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4232-0A39-4A4D-B71C-FC8A933D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2553-C21D-4553-9415-69C920DD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9058-4363-45ED-AB97-1CEC80C7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ACB-AABF-4273-A141-2F920146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871D-ECB7-4EA3-AC60-E3E0CF7C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2734-7DA3-4B19-A843-56113993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DC57-C95F-4EE2-8D5B-5AA796CB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1164-6C06-4122-BEC9-8B7EFEE6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32A1-674C-428D-AE6E-E614913A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AA4-8831-4173-9E09-2886439D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EEC-31B1-4A9C-8DE9-E99F5181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1D4-E802-4AE2-B7B9-9059A1BE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C2A-F0BF-44E5-80D0-FD6B6497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4C2-4974-434A-8EF5-59FE9C9C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3DE-5909-45D8-871E-02EF1124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835-98DF-4728-9AA2-191D76E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4360" y="1415880"/>
            <a:ext cx="1784160" cy="2324160"/>
            <a:chOff x="414360" y="1415880"/>
            <a:chExt cx="1784160" cy="2324160"/>
          </a:xfrm>
        </p:grpSpPr>
        <p:sp>
          <p:nvSpPr>
            <p:cNvPr id="57" name=""/>
            <p:cNvSpPr/>
            <p:nvPr/>
          </p:nvSpPr>
          <p:spPr>
            <a:xfrm flipH="1">
              <a:off x="414360" y="1513440"/>
              <a:ext cx="17841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00" y="141912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11200" y="141588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94A1-C8CE-4AFA-ACDC-7EB252BF037D}" type="slidenum">
              <a:rPr b="0" lang="en-US" sz="1200" spc="-1" strike="noStrike">
                <a:solidFill>
                  <a:srgbClr val="40458c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3388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624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17BC-C666-40DB-AEB1-DC852058DE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image" Target="../media/image3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5727600"/>
            <a:ext cx="914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Maximal temperature 1108 °C in 55 min.      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812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66"/>
                </a:solidFill>
                <a:latin typeface="Arial Narrow"/>
              </a:rPr>
              <a:t>Gas Temperatures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03360" y="1463760"/>
          <a:ext cx="79390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463760"/>
                    <a:ext cx="79390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2E9-8118-4BCB-9E13-3AD392E593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at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88C-647B-4E62-ABAF-8B052AB4BC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at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8D6-9F1E-40DB-B8A0-E332EAEB493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at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A2A-CABD-4514-9755-8926F14518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at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6A7-D5BD-4DCA-A1C8-87AB404A20D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at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FB6-4AC6-4DD1-9949-113DAB23922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at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53A-E641-46C1-AC3E-B5EF29BAF4F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F30-25A9-4EF2-810B-E4426106967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C73-1921-4D2D-9FB2-39651A4FA24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3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E1A-5D9C-4771-8153-CA483BCFBA3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529-21B5-4ADE-BA13-258672D2623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sotherms 300 mm below Ceil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82D-A892-44CF-A969-6AD6982BF0D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90E-2D90-4A92-B9B3-67313F8506B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C29-772F-4DE0-9C67-A156809A92C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16E-37B0-4BC6-849F-54B3466DEE3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35F-7342-4977-91DA-B855E0EA5C3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43B-513D-479A-AC08-B07A07ABB7D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aximal Temperatu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F3B-67C7-4ED6-94E7-2E75DD5263C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aximal Temperatu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532-D7A4-4408-BBB0-F1F647924EB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aximal Temperatu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A97-6FDF-44FF-8A2B-963BC31C8AD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aximal Temperatu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FD2-6363-48F7-BD00-AB1D6131B59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31C-53E6-4839-869B-357635DEA12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sotherms 300 mm below Ceil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7F5-23F9-4679-87E4-DC7DC74C841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560-EE26-4245-B220-E0E1659D910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F0B-3FC3-46C1-A92C-5BA9B4C23D2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3B5-2816-406A-A21C-26CE9E2BE6B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F92-6F45-463B-B624-53AEC3F0AA3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AA9-488B-4168-AA3F-CD5E6378B6B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291-F094-4309-ABE4-C03395D9D24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ool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670-C0B6-4650-B9CF-2703D6CAA8A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ool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B3F-BEA3-401C-A398-D524B5B0E80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ool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79A-92D6-491F-A699-C7588252E89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ool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DB2-19D1-4B10-8E36-F75F0AA650D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sotherms 300 mm below Ceil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27D-BA06-4EF2-8753-14C94C72E70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ool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BDD-18A3-462E-9AA7-C6B7B0B833F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ool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31A-F427-4994-9B81-29FF92773DE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ool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2FF-7C33-4293-BCEB-4399B0DD4EB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90760"/>
            <a:ext cx="29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Heating Pha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differenc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Narrow"/>
              </a:rPr>
              <a:t>in front and b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178 °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27640" y="5384880"/>
            <a:ext cx="29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oling Pha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fferenc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Narrow"/>
              </a:rPr>
              <a:t>in front and b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34 °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71640" y="421812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aximum </a:t>
            </a:r>
            <a:r>
              <a:rPr b="1" lang="cs-CZ" sz="24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emperat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differenc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Narrow"/>
              </a:rPr>
              <a:t>in front and b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194 °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0" y="0"/>
            <a:ext cx="2935440" cy="2724120"/>
            <a:chOff x="0" y="0"/>
            <a:chExt cx="2935440" cy="272412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115920" y="105120"/>
              <a:ext cx="2703960" cy="2619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08" name=""/>
            <p:cNvGraphicFramePr/>
            <p:nvPr/>
          </p:nvGraphicFramePr>
          <p:xfrm>
            <a:off x="0" y="0"/>
            <a:ext cx="2935440" cy="23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2935440" cy="23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0" name=""/>
          <p:cNvGrpSpPr/>
          <p:nvPr/>
        </p:nvGrpSpPr>
        <p:grpSpPr>
          <a:xfrm>
            <a:off x="3117960" y="952560"/>
            <a:ext cx="2925720" cy="2561760"/>
            <a:chOff x="3117960" y="952560"/>
            <a:chExt cx="2925720" cy="2561760"/>
          </a:xfrm>
        </p:grpSpPr>
        <p:pic>
          <p:nvPicPr>
            <p:cNvPr id="411" name="" descr=""/>
            <p:cNvPicPr/>
            <p:nvPr/>
          </p:nvPicPr>
          <p:blipFill>
            <a:blip r:embed="rId4"/>
            <a:stretch/>
          </p:blipFill>
          <p:spPr>
            <a:xfrm>
              <a:off x="3233520" y="1071720"/>
              <a:ext cx="2694960" cy="2442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12" name=""/>
            <p:cNvGraphicFramePr/>
            <p:nvPr/>
          </p:nvGraphicFramePr>
          <p:xfrm>
            <a:off x="3117960" y="952560"/>
            <a:ext cx="2925720" cy="222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17960" y="952560"/>
                      <a:ext cx="2925720" cy="222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4" name=""/>
          <p:cNvGrpSpPr/>
          <p:nvPr/>
        </p:nvGrpSpPr>
        <p:grpSpPr>
          <a:xfrm>
            <a:off x="6208560" y="2000160"/>
            <a:ext cx="2935440" cy="2800440"/>
            <a:chOff x="6208560" y="2000160"/>
            <a:chExt cx="2935440" cy="2800440"/>
          </a:xfrm>
        </p:grpSpPr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6324480" y="2130480"/>
              <a:ext cx="2703960" cy="2670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16" name=""/>
            <p:cNvGraphicFramePr/>
            <p:nvPr/>
          </p:nvGraphicFramePr>
          <p:xfrm>
            <a:off x="6208560" y="2000160"/>
            <a:ext cx="2935440" cy="2437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208560" y="2000160"/>
                      <a:ext cx="2935440" cy="243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7C7-8FE6-46D6-B861-D31138E75CC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5727600"/>
            <a:ext cx="914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Measured 1108 °C in 55 min.  predicted  1078 °C in 53 mi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812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 Narrow"/>
              </a:rPr>
              <a:t>Prediction of Gas Temperature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601560" y="1461960"/>
          <a:ext cx="79390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1461960"/>
                    <a:ext cx="79390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149-C85F-4E03-8BD2-6FEA7A57E0D8}" type="slidenum">
              <a:t>4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sotherms 300 mm below Ceil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999-A98A-4674-A2B6-4DC95A497F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sotherms 300 mm below Ceil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EA0-B4BF-4028-8358-EEFFD007CB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at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48D-44AC-4702-90A2-40EF567429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at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330-8279-474B-B30E-64693866D22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88960" y="264960"/>
            <a:ext cx="7985160" cy="659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246240" y="0"/>
          <a:ext cx="8669160" cy="60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0"/>
                    <a:ext cx="86691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-316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ating Pha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A03-6254-4B7C-AD1F-062067C396C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19:49:41Z</dcterms:created>
  <dc:creator>wald</dc:creator>
  <dc:description/>
  <dc:language>en-US</dc:language>
  <cp:lastModifiedBy>wald</cp:lastModifiedBy>
  <dcterms:modified xsi:type="dcterms:W3CDTF">2004-09-20T14:03:48Z</dcterms:modified>
  <cp:revision>188</cp:revision>
  <dc:subject/>
  <dc:title>Prezentace aplikace PowerPoint</dc:title>
</cp:coreProperties>
</file>