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A06-958F-4C2C-901F-C9095CB4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A6B-8CB1-4707-BDD0-F0A36E59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4F5-E578-4C6C-A840-17F9C98A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F42-C979-46D7-9DFF-CB3F8114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2AC-189E-4775-AE77-20A7648E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9CF-CDAA-4E5C-A44A-B8FC46D3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53C-3A92-4A31-B465-BAD6B2D2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D69-5F7D-4E97-9340-65DAF25C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4C4-45E4-489A-BE56-3488781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D3C-BBBE-4493-B5F0-1C961F5B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653-B8D5-4932-B7B8-6DC19DB2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F07-BAFD-4198-AB02-6FB92247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7E1B-ABEA-4C75-B085-6A51ED863A2B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87280" y="836640"/>
            <a:ext cx="777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956720" y="6264360"/>
            <a:ext cx="1187280" cy="593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463920" cy="8589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3238560"/>
            <a:ext cx="0" cy="359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-122316" t="15260" r="59056" b="21744"/>
          <a:stretch/>
        </p:blipFill>
        <p:spPr>
          <a:xfrm>
            <a:off x="358920" y="1700280"/>
            <a:ext cx="8580240" cy="165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17928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  <a:ea typeface="宋体"/>
              </a:rPr>
              <a:t>COST C 26, 17-18, November, 2006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6000" y="1773360"/>
            <a:ext cx="1584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1844640"/>
            <a:ext cx="85820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Behavi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of stainless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uctural elements in case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5397480"/>
            <a:ext cx="3960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宋体"/>
              </a:rPr>
              <a:t>Luis Simões da 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University of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Coimbra, Portu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3957480"/>
            <a:ext cx="403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uno L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University of Aveiro, Portu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6116760"/>
            <a:ext cx="3927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宋体"/>
              </a:rPr>
              <a:t>Jean-Marc Fran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  <a:ea typeface="宋体"/>
              </a:rPr>
              <a:t>University of Liege, Belg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678200"/>
            <a:ext cx="3960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宋体"/>
              </a:rPr>
              <a:t>Paulo Vil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University of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Aveiro, Portu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56000" y="3500280"/>
            <a:ext cx="3979800" cy="254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1792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tainless steel materi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268280"/>
            <a:ext cx="57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EC3 states that the fire resistance should be determined according to part 1-2, using the same expressions that were achieved for carbon ste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However, carbon steel and stainless steel exhibit different stress-strain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ainless steel 1.4301 and Carbon steel S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4805280"/>
            <a:ext cx="504720" cy="1008000"/>
          </a:xfrm>
          <a:prstGeom prst="ellipse">
            <a:avLst/>
          </a:prstGeom>
          <a:noFill/>
          <a:ln w="63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548160" cy="2268360"/>
          </a:xfrm>
          <a:prstGeom prst="rect">
            <a:avLst/>
          </a:prstGeom>
          <a:ln w="63360">
            <a:solidFill>
              <a:srgbClr val="66ff99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772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31214E-006 L -0.23108 0.00092 E">
                                      <p:cBhvr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360" y="-27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Lateral-torsional buckling at high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135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E 220 grade 1.43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149480"/>
            <a:ext cx="3861000" cy="1992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88000" y="2924280"/>
            <a:ext cx="3860640" cy="1992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6640" y="4676760"/>
            <a:ext cx="3861000" cy="1992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rcRect l="0" t="-4722" r="0" b="12015"/>
          <a:stretch/>
        </p:blipFill>
        <p:spPr>
          <a:xfrm>
            <a:off x="5219640" y="5013360"/>
            <a:ext cx="25210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492360" y="-27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lumn buckling at high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135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 200 grade 1.43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19280" y="3933720"/>
            <a:ext cx="4448160" cy="2486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380360" y="2997360"/>
            <a:ext cx="1218960" cy="223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42498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000" y="1197000"/>
            <a:ext cx="4235400" cy="4271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979640" y="4705200"/>
            <a:ext cx="7056360" cy="2097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56000" y="2060640"/>
            <a:ext cx="4608720" cy="1465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宋体"/>
              </a:rPr>
              <a:t>Does it mean that the interaction factors and the interaction formulae were not well established for stainless steel members at the time of the conversion from ENV to 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92720" y="3789360"/>
            <a:ext cx="719280" cy="720720"/>
          </a:xfrm>
          <a:prstGeom prst="downArrow">
            <a:avLst>
              <a:gd name="adj1" fmla="val 50000"/>
              <a:gd name="adj2" fmla="val 2505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494172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305160" y="6473880"/>
            <a:ext cx="418464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-27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宋体"/>
              </a:rPr>
              <a:t>Praha Worksh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宋体"/>
              </a:rPr>
              <a:t>Beam column i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nteraction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4000" y="5400720"/>
            <a:ext cx="2016000" cy="1401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356000" y="981000"/>
            <a:ext cx="4608720" cy="91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  <a:ea typeface="宋体"/>
              </a:rPr>
              <a:t>What is the behaviour of stainless steel beam-column in case of fire? Is it similar to carbon steel as EC3 st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7280" y="1792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宋体"/>
              </a:rPr>
              <a:t>Contribution to WG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88712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develop more comprehensive and economic guidance on the design of stainless steel structural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Study the instability phenomena of stainless steel structural members at elevated temper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ateral-torsional buckling (LT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lumn buck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Beam-columns, with and without L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ocal buckling (class 4 cross se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Study the global structural behaviour of 2D and 3D structures in case of fire (carbon steel vs stainless stee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0:21:20Z</dcterms:created>
  <dc:creator>Nuno Filipe Lopes</dc:creator>
  <dc:description/>
  <dc:language>en-US</dc:language>
  <cp:lastModifiedBy>František Wald</cp:lastModifiedBy>
  <dcterms:modified xsi:type="dcterms:W3CDTF">2006-11-18T19:17:45Z</dcterms:modified>
  <cp:revision>256</cp:revision>
  <dc:subject/>
  <dc:title>Diapositivo 1</dc:title>
</cp:coreProperties>
</file>