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4A6-2BC0-4AE4-A79C-F850B241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986-C30F-4E33-9E0F-29A5E93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069-5943-4AF6-85DB-3130CF14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8EA-7183-4D50-A200-DC467A23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D6A3-E9A0-46E7-9FF7-D550CC80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B51D-1EBD-4D4B-9404-3C8B375B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22DE-5054-4999-9779-5812698E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1350-F9A9-4A40-876B-CC17F812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7C95-21AA-4489-8223-71DDFE74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439D-C59A-4D32-BEC7-ED68AA0B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C522-0044-4436-AA8F-50D9993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898-7BEB-4CC0-8A68-DB020710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3446-4D08-4BCA-AFDA-65EB30E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FDBB-7DCA-4A96-ADC7-C6A00C39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7870-3A55-4698-BAFB-4F32613B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2F1B-FD3F-4DD0-BCB0-10AF4CFF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121-3760-4AA3-AF56-6EA2B07F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5A6-6E89-4182-8520-657A66CD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614-CD07-4D94-AC09-26CCD1A5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D62-A594-4027-B783-E36A38C4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02E-CB8B-4983-BA93-5DCF8FC4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AC5-6E97-4E79-B9F9-291C4A6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930-D572-4BDC-BF8D-D1EF1C3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7FE-3ECE-4B99-9949-8A069E53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ff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0299-F7F2-4AB6-A3E2-444F279B4EB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B892-EDEE-4D84-BBBE-CC9B95AF75F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1988640"/>
            <a:ext cx="8835840" cy="1854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Tahoma"/>
              </a:rPr>
              <a:t>Post-earthquake Fire Resistance 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Tahoma"/>
              </a:rPr>
              <a:t>Of 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Tahoma"/>
              </a:rPr>
              <a:t>Moment Resisting Steel Frames</a:t>
            </a:r>
            <a:endParaRPr b="0" lang="en-US" sz="38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633760" y="5583960"/>
            <a:ext cx="6140520" cy="429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Tahoma"/>
              </a:rPr>
              <a:t>University “Federico II” of Nap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3926880"/>
            <a:ext cx="9051840" cy="474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 u="sng">
                <a:solidFill>
                  <a:srgbClr val="cc0000"/>
                </a:solidFill>
                <a:uFillTx/>
                <a:latin typeface="Tahoma"/>
              </a:rPr>
              <a:t>B. Faggian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0680" y="4668840"/>
            <a:ext cx="2085840" cy="203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58880" y="2852640"/>
            <a:ext cx="188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95264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4680" y="438624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01720" y="0"/>
            <a:ext cx="5715000" cy="7714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490680" y="801000"/>
            <a:ext cx="793404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WG1 meeting – Delft – The Netherlands – 17-18 November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9144000" cy="4129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r" pos="887724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st-earthquake Fire Resistance of Moment Resisting Steel Frames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Faggiano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66ff33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506520"/>
            <a:ext cx="2879640" cy="1866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59280" y="1628640"/>
            <a:ext cx="344952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Fire in central Kobe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 (courtesy of EQ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512640"/>
            <a:ext cx="4203720" cy="97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HIGH RISK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of a fire developing after an earthquak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ahoma"/>
              </a:rPr>
              <a:t>San Francisco 1906, 1989, Tokyo 1923, Kobe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136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96000" y="2058840"/>
            <a:ext cx="2268360" cy="352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RISKS SOUR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0" y="2384280"/>
            <a:ext cx="9139320" cy="560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Damage to pipelines, </a:t>
            </a:r>
            <a:r>
              <a:rPr b="1" i="1" lang="it-IT" sz="1600" spc="-1" strike="noStrike">
                <a:solidFill>
                  <a:srgbClr val="cc0000"/>
                </a:solidFill>
                <a:latin typeface="Tahoma"/>
              </a:rPr>
              <a:t>to electric wiring</a:t>
            </a: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, to active and passive fire protection systems, </a:t>
            </a:r>
            <a:r>
              <a:rPr b="1" i="1" lang="it-IT" sz="1600" spc="-1" strike="noStrike">
                <a:solidFill>
                  <a:srgbClr val="cc0000"/>
                </a:solidFill>
                <a:latin typeface="Tahoma"/>
              </a:rPr>
              <a:t>to the building struct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324720"/>
            <a:ext cx="1655640" cy="2116080"/>
            <a:chOff x="0" y="324720"/>
            <a:chExt cx="1655640" cy="2116080"/>
          </a:xfrm>
        </p:grpSpPr>
        <p:sp>
          <p:nvSpPr>
            <p:cNvPr id="99" name=""/>
            <p:cNvSpPr/>
            <p:nvPr/>
          </p:nvSpPr>
          <p:spPr>
            <a:xfrm>
              <a:off x="0" y="324720"/>
              <a:ext cx="1655640" cy="211608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spAutoFit/>
            </a:bodyPr>
            <a:p>
              <a:pPr>
                <a:lnSpc>
                  <a:spcPct val="120000"/>
                </a:lnSpc>
                <a:spcAft>
                  <a:spcPts val="1001"/>
                </a:spcAft>
                <a:tabLst>
                  <a:tab algn="l" pos="0"/>
                  <a:tab algn="r" pos="887724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Contents:</a:t>
              </a:r>
              <a:br>
                <a:rPr sz="1600"/>
              </a:b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1.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Introd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2. Methodology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3. Result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4. Conclusion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Referen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314440"/>
              <a:ext cx="165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46280" y="441360"/>
              <a:ext cx="0" cy="187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164360" y="81000"/>
            <a:ext cx="1943280" cy="26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0" y="3822840"/>
            <a:ext cx="2448000" cy="46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c0000"/>
                </a:solidFill>
                <a:uFillTx/>
                <a:latin typeface="Tahoma"/>
              </a:rPr>
              <a:t>MOTI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27560"/>
            <a:ext cx="9099720" cy="52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Sound design for guaranteeing fire safety of buildings exposed to post-earthquake fire risk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by fitting fire resistance according to prefixed performance leve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9360" y="4994280"/>
            <a:ext cx="9109080" cy="127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Evaluation of the effects of earthquake-induced damage on fire resistance even if no fire develops immediately after the earthquak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In case of a structure surviving the earthquake with some damage, the overall future building performance must be assessed, in order to consider also the need for a post-earthquake fireproofing interven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80" y="2951280"/>
            <a:ext cx="9139320" cy="333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OPERATING DIFFICULTIES for firemen : </a:t>
            </a:r>
            <a:r>
              <a:rPr b="1" lang="it-IT" sz="1200" spc="-1" strike="noStrike">
                <a:solidFill>
                  <a:srgbClr val="cc0000"/>
                </a:solidFill>
                <a:latin typeface="Tahoma"/>
              </a:rPr>
              <a:t>obstruction of roads, multiple fires, difficulties in water supp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83280" y="3419640"/>
            <a:ext cx="3060720" cy="1341360"/>
          </a:xfrm>
          <a:prstGeom prst="rect">
            <a:avLst/>
          </a:prstGeom>
          <a:solidFill>
            <a:srgbClr val="cc00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29600" cy="41256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r" pos="887724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st-earthquake Fire Resistance of Moment Resisting Steel Frames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Faggiano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844640" y="441360"/>
            <a:ext cx="7218360" cy="539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NUMERICAL INVESTIG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36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44640" y="981000"/>
            <a:ext cx="7218360" cy="6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Evaluation of the fire resistance of structures, damaged by the earthquake, in terms of time up to coll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59080"/>
            <a:ext cx="7164360" cy="817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tructural analysis under seismic action: damage distribution and ext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cc0000"/>
                </a:solidFill>
                <a:latin typeface="Tahoma"/>
              </a:rPr>
              <a:t>Different acceleration record and multiple levels of earthquake intensities, hence earthquake-induced dam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164360" y="81000"/>
            <a:ext cx="1943280" cy="26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906560" y="1943280"/>
            <a:ext cx="3060720" cy="333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ANALYSIS PROCED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7164360" y="1835280"/>
            <a:ext cx="1979640" cy="1341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0" y="3249720"/>
            <a:ext cx="5327640" cy="151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ctr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tructural analysis under fire: fire resistance rat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ctr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cc0000"/>
                </a:solidFill>
                <a:latin typeface="Tahoma"/>
              </a:rPr>
              <a:t>According to the chosen thermal program corresponding to a fire event and to the earthquake intensit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Simplified structural models:</a:t>
            </a:r>
            <a:r>
              <a:rPr b="0" i="1" lang="it-IT" sz="1400" spc="-1" strike="noStrike">
                <a:solidFill>
                  <a:srgbClr val="cc0000"/>
                </a:solidFill>
                <a:latin typeface="Tahoma"/>
              </a:rPr>
              <a:t>Fire analysis performed on the frame presenting a residual deformed geometry due to damage after the earthquak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ctr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74160" y="2168640"/>
            <a:ext cx="104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c0000"/>
                </a:solidFill>
                <a:latin typeface="Tahoma"/>
              </a:rPr>
              <a:t>Residual deformed shape of the frame after the earthqua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27640" y="3419640"/>
            <a:ext cx="755640" cy="1341360"/>
            <a:chOff x="5327640" y="3419640"/>
            <a:chExt cx="755640" cy="1341360"/>
          </a:xfrm>
        </p:grpSpPr>
        <p:pic>
          <p:nvPicPr>
            <p:cNvPr id="119" name="" descr=""/>
            <p:cNvPicPr/>
            <p:nvPr/>
          </p:nvPicPr>
          <p:blipFill>
            <a:blip r:embed="rId4">
              <a:alphaModFix amt="50000"/>
            </a:blip>
            <a:stretch/>
          </p:blipFill>
          <p:spPr>
            <a:xfrm>
              <a:off x="5327640" y="3419640"/>
              <a:ext cx="755640" cy="134136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sp>
          <p:nvSpPr>
            <p:cNvPr id="120" name=""/>
            <p:cNvSpPr/>
            <p:nvPr/>
          </p:nvSpPr>
          <p:spPr>
            <a:xfrm>
              <a:off x="5596920" y="4541760"/>
              <a:ext cx="156960" cy="146160"/>
            </a:xfrm>
            <a:prstGeom prst="irregularSeal2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157800" y="3490920"/>
            <a:ext cx="1979640" cy="1216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8101080" y="3570120"/>
            <a:ext cx="107928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Tahoma"/>
              </a:rPr>
              <a:t>‘</a:t>
            </a:r>
            <a:r>
              <a:rPr b="1" lang="en-GB" sz="1000" spc="-1" strike="noStrike">
                <a:solidFill>
                  <a:srgbClr val="ffff00"/>
                </a:solidFill>
                <a:latin typeface="Tahoma"/>
              </a:rPr>
              <a:t>Standard’ ISO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Tahoma"/>
              </a:rPr>
              <a:t>Time-Temperature Cur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1640" y="2960640"/>
            <a:ext cx="287280" cy="144360"/>
          </a:xfrm>
          <a:custGeom>
            <a:avLst/>
            <a:gdLst/>
            <a:ahLst/>
            <a:rect l="l" t="t" r="r" b="b"/>
            <a:pathLst>
              <a:path w="862" h="589">
                <a:moveTo>
                  <a:pt x="0" y="340"/>
                </a:moveTo>
                <a:lnTo>
                  <a:pt x="68" y="181"/>
                </a:lnTo>
                <a:lnTo>
                  <a:pt x="136" y="453"/>
                </a:lnTo>
                <a:lnTo>
                  <a:pt x="227" y="0"/>
                </a:lnTo>
                <a:lnTo>
                  <a:pt x="318" y="589"/>
                </a:lnTo>
                <a:lnTo>
                  <a:pt x="340" y="181"/>
                </a:lnTo>
                <a:lnTo>
                  <a:pt x="363" y="363"/>
                </a:lnTo>
                <a:lnTo>
                  <a:pt x="408" y="249"/>
                </a:lnTo>
                <a:lnTo>
                  <a:pt x="476" y="499"/>
                </a:lnTo>
                <a:lnTo>
                  <a:pt x="499" y="136"/>
                </a:lnTo>
                <a:lnTo>
                  <a:pt x="612" y="544"/>
                </a:lnTo>
                <a:lnTo>
                  <a:pt x="658" y="227"/>
                </a:lnTo>
                <a:lnTo>
                  <a:pt x="680" y="340"/>
                </a:lnTo>
                <a:lnTo>
                  <a:pt x="749" y="385"/>
                </a:lnTo>
                <a:lnTo>
                  <a:pt x="794" y="317"/>
                </a:lnTo>
                <a:lnTo>
                  <a:pt x="862" y="340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761000"/>
            <a:ext cx="3060720" cy="333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Study c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>
            <a:alphaModFix amt="50000"/>
          </a:blip>
          <a:srcRect l="0" t="11993" r="89787" b="37477"/>
          <a:stretch/>
        </p:blipFill>
        <p:spPr>
          <a:xfrm>
            <a:off x="31680" y="6219720"/>
            <a:ext cx="615960" cy="66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>
            <a:alphaModFix amt="50000"/>
          </a:blip>
          <a:srcRect l="18788" t="9681" r="61140" b="37477"/>
          <a:stretch/>
        </p:blipFill>
        <p:spPr>
          <a:xfrm>
            <a:off x="647640" y="6207120"/>
            <a:ext cx="1187640" cy="67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>
            <a:alphaModFix amt="50000"/>
          </a:blip>
          <a:srcRect l="0" t="21961" r="0" b="2114"/>
          <a:stretch/>
        </p:blipFill>
        <p:spPr>
          <a:xfrm>
            <a:off x="1830240" y="5445000"/>
            <a:ext cx="3102120" cy="1440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>
            <a:alphaModFix amt="50000"/>
          </a:blip>
          <a:stretch/>
        </p:blipFill>
        <p:spPr>
          <a:xfrm>
            <a:off x="7027920" y="4902120"/>
            <a:ext cx="1050840" cy="198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>
            <a:alphaModFix amt="50000"/>
          </a:blip>
          <a:stretch/>
        </p:blipFill>
        <p:spPr>
          <a:xfrm>
            <a:off x="8078760" y="4905360"/>
            <a:ext cx="1050840" cy="1982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>
            <a:alphaModFix amt="50000"/>
          </a:blip>
          <a:stretch/>
        </p:blipFill>
        <p:spPr>
          <a:xfrm>
            <a:off x="4932360" y="4905360"/>
            <a:ext cx="1047600" cy="197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2">
            <a:alphaModFix amt="50000"/>
          </a:blip>
          <a:stretch/>
        </p:blipFill>
        <p:spPr>
          <a:xfrm>
            <a:off x="5979960" y="4908600"/>
            <a:ext cx="1047960" cy="1976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43200" y="6669000"/>
            <a:ext cx="272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98760" y="6657840"/>
            <a:ext cx="27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207120"/>
            <a:ext cx="1830240" cy="1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5445000"/>
            <a:ext cx="3097080" cy="1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4905360"/>
            <a:ext cx="4197240" cy="1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324720"/>
            <a:ext cx="1655640" cy="2116080"/>
            <a:chOff x="0" y="324720"/>
            <a:chExt cx="1655640" cy="2116080"/>
          </a:xfrm>
        </p:grpSpPr>
        <p:sp>
          <p:nvSpPr>
            <p:cNvPr id="138" name=""/>
            <p:cNvSpPr/>
            <p:nvPr/>
          </p:nvSpPr>
          <p:spPr>
            <a:xfrm>
              <a:off x="0" y="324720"/>
              <a:ext cx="1655640" cy="211608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spAutoFit/>
            </a:bodyPr>
            <a:p>
              <a:pPr>
                <a:lnSpc>
                  <a:spcPct val="120000"/>
                </a:lnSpc>
                <a:spcAft>
                  <a:spcPts val="1001"/>
                </a:spcAft>
                <a:tabLst>
                  <a:tab algn="l" pos="0"/>
                  <a:tab algn="r" pos="887724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Contents: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1. Introd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2. Methodology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3. Result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4. Conclusion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Referen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2314440"/>
              <a:ext cx="165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46280" y="441360"/>
              <a:ext cx="0" cy="187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29600" cy="41256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r" pos="887724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st-earthquake Fire Resistance of Moment Resisting Steel Frames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Faggiano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441360"/>
            <a:ext cx="4248000" cy="539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SIMPLE PORTAL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36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981000"/>
            <a:ext cx="7083360" cy="684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Fire resistance ratings reduction for steel portal frames subject to geometrical da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64360" y="81000"/>
            <a:ext cx="1943280" cy="26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1843200" y="6669000"/>
            <a:ext cx="272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98760" y="6657840"/>
            <a:ext cx="27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700360" y="1809720"/>
            <a:ext cx="3224160" cy="19796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940360" y="1811160"/>
            <a:ext cx="3221280" cy="19782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0" y="2349360"/>
            <a:ext cx="3095640" cy="144000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As far as the level of geometrical damage increases, the fire resistance rating decre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the fire resistance reduction is slightly affected by the level of vertical load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789360"/>
            <a:ext cx="3240000" cy="539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5 STORY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329000"/>
            <a:ext cx="4464000" cy="9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Normalised fire resistance rating vs. the maximum residual inter-story drift angle for ULS and SLS 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rcRect l="1403" t="0" r="2679" b="0"/>
          <a:stretch/>
        </p:blipFill>
        <p:spPr>
          <a:xfrm>
            <a:off x="52560" y="5229360"/>
            <a:ext cx="2170080" cy="15843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6"/>
          <a:srcRect l="1403" t="0" r="2679" b="0"/>
          <a:stretch/>
        </p:blipFill>
        <p:spPr>
          <a:xfrm>
            <a:off x="2211480" y="5229360"/>
            <a:ext cx="2181240" cy="15843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572000" y="4329000"/>
            <a:ext cx="4464000" cy="90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Normalised fire resistance rating vs. site seismic intensity for ULS and SLS 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rcRect l="1489" t="971" r="-1611" b="971"/>
          <a:stretch/>
        </p:blipFill>
        <p:spPr>
          <a:xfrm>
            <a:off x="4427640" y="5229360"/>
            <a:ext cx="2306520" cy="15843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8"/>
          <a:srcRect l="1440" t="2258" r="-2081" b="1881"/>
          <a:stretch/>
        </p:blipFill>
        <p:spPr>
          <a:xfrm>
            <a:off x="6732720" y="5229360"/>
            <a:ext cx="2408040" cy="15843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grpSp>
        <p:nvGrpSpPr>
          <p:cNvPr id="158" name=""/>
          <p:cNvGrpSpPr/>
          <p:nvPr/>
        </p:nvGrpSpPr>
        <p:grpSpPr>
          <a:xfrm>
            <a:off x="0" y="324720"/>
            <a:ext cx="1655640" cy="2116080"/>
            <a:chOff x="0" y="324720"/>
            <a:chExt cx="1655640" cy="2116080"/>
          </a:xfrm>
        </p:grpSpPr>
        <p:sp>
          <p:nvSpPr>
            <p:cNvPr id="159" name=""/>
            <p:cNvSpPr/>
            <p:nvPr/>
          </p:nvSpPr>
          <p:spPr>
            <a:xfrm>
              <a:off x="0" y="324720"/>
              <a:ext cx="1655640" cy="211608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spAutoFit/>
            </a:bodyPr>
            <a:p>
              <a:pPr>
                <a:lnSpc>
                  <a:spcPct val="120000"/>
                </a:lnSpc>
                <a:spcAft>
                  <a:spcPts val="1001"/>
                </a:spcAft>
                <a:tabLst>
                  <a:tab algn="l" pos="0"/>
                  <a:tab algn="r" pos="887724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Contents: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1. Introd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2. Methodology</a:t>
              </a:r>
              <a:br>
                <a:rPr sz="1600"/>
              </a:b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3. Result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4. Conclusion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Referen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2314440"/>
              <a:ext cx="165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46280" y="441360"/>
              <a:ext cx="0" cy="187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29600" cy="41256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r" pos="887724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st-earthquake Fire Resistance of Moment Resisting Steel Frames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Faggiano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441360"/>
            <a:ext cx="7083360" cy="503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10 STORY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4136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944640"/>
            <a:ext cx="7083360" cy="684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Normalised fire resistance rating vs. normalized seismic intensity for P/S-ULS and P/S-SLS 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164360" y="81000"/>
            <a:ext cx="1943280" cy="26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1843200" y="6669000"/>
            <a:ext cx="272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98760" y="6657840"/>
            <a:ext cx="27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21000"/>
            <a:ext cx="9158400" cy="93672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During the pre-earthquake fires, the undamaged frames collapsed on themselves, without appreciable lateral 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displa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The earthquake-induced damage produces a lateral stability type of collapse mechani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908000" y="1627200"/>
            <a:ext cx="1806840" cy="1405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548320" y="1627200"/>
            <a:ext cx="1806480" cy="1405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47960" y="1628640"/>
            <a:ext cx="1806840" cy="1405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7362720" y="1628640"/>
            <a:ext cx="1781280" cy="1405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116160" y="1684080"/>
            <a:ext cx="519120" cy="15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P-U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0000" y="2582640"/>
            <a:ext cx="576360" cy="15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P-S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23000" y="1971360"/>
            <a:ext cx="585720" cy="15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S-U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24720" y="2520720"/>
            <a:ext cx="573120" cy="15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S-S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392200"/>
            <a:ext cx="1655640" cy="855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The type of collapse mechanis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437000"/>
            <a:ext cx="9158400" cy="79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The development of a quantitative proposal for fire-safety codes is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300640"/>
            <a:ext cx="7083360" cy="126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It requir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to refine model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to increase the number of simulated c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324720"/>
            <a:ext cx="1655640" cy="2116080"/>
            <a:chOff x="0" y="324720"/>
            <a:chExt cx="1655640" cy="2116080"/>
          </a:xfrm>
        </p:grpSpPr>
        <p:sp>
          <p:nvSpPr>
            <p:cNvPr id="182" name=""/>
            <p:cNvSpPr/>
            <p:nvPr/>
          </p:nvSpPr>
          <p:spPr>
            <a:xfrm>
              <a:off x="0" y="324720"/>
              <a:ext cx="1655640" cy="211608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spAutoFit/>
            </a:bodyPr>
            <a:p>
              <a:pPr>
                <a:lnSpc>
                  <a:spcPct val="120000"/>
                </a:lnSpc>
                <a:spcAft>
                  <a:spcPts val="1001"/>
                </a:spcAft>
                <a:tabLst>
                  <a:tab algn="l" pos="0"/>
                  <a:tab algn="r" pos="887724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Contents: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1. Introd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2. Methodology</a:t>
              </a:r>
              <a:br>
                <a:rPr sz="1600"/>
              </a:b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3. Results</a:t>
              </a:r>
              <a:br>
                <a:rPr sz="1600"/>
              </a:b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4. Conclusion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Referen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2314440"/>
              <a:ext cx="165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46280" y="441360"/>
              <a:ext cx="0" cy="187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29600" cy="41256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r" pos="887724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st-earthquake Fire Resistance of Moment Resisting Steel Frames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Faggiano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4136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164360" y="81000"/>
            <a:ext cx="1943280" cy="26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1843200" y="6669000"/>
            <a:ext cx="272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98760" y="6657840"/>
            <a:ext cx="273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L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565200"/>
            <a:ext cx="7452000" cy="6092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Della Corte, G., Landolfo, R.. Post-Earthquake Fire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Resistance of Steel Structures. In E. Zio, Demichela M.,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Piccinini N. (eds), Safety and Reliability, Towards a Safer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World (Proceedings of the European Conference on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Safety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and Reliability – ESREL 2001), Torino: Politecnico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di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Torino, 3: 1739-1746, 200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Della Corte, G., Landolfo, R., Mazzolani, F.M.. Post-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earthquake fire resistance of moment-resisting steel 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frames. 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Fire Safety Journal, 38 (2003), 593-612, Elsevier 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Lt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Della Corte G., Faggiano B., Mazzolani F.M. 2005. On the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structural effects of fire following earthquake. In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Proceedings of the Final Conference COST C12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“Improving buildings' structural quality by new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technologies”, Innsbruck, Austria, 20-22 January 200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Faggiano B., Della Corte G., Mazzolani F.M., Landolfo R. 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2005. Post-earthquake fire resistance of moment 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resisting steel frames. In Proceedings of the Eurosteel 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Conference on Steel and Composite Structures, 8-10 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Giugno, Maastricht, The Neetherl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324720"/>
            <a:ext cx="1655640" cy="2116080"/>
            <a:chOff x="0" y="324720"/>
            <a:chExt cx="1655640" cy="2116080"/>
          </a:xfrm>
        </p:grpSpPr>
        <p:sp>
          <p:nvSpPr>
            <p:cNvPr id="192" name=""/>
            <p:cNvSpPr/>
            <p:nvPr/>
          </p:nvSpPr>
          <p:spPr>
            <a:xfrm>
              <a:off x="0" y="324720"/>
              <a:ext cx="1655640" cy="211608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spAutoFit/>
            </a:bodyPr>
            <a:p>
              <a:pPr>
                <a:lnSpc>
                  <a:spcPct val="120000"/>
                </a:lnSpc>
                <a:spcAft>
                  <a:spcPts val="1001"/>
                </a:spcAft>
                <a:tabLst>
                  <a:tab algn="l" pos="0"/>
                  <a:tab algn="r" pos="887724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Contents: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1. Introduc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2. Methodology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3. Result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4. Conclusions</a:t>
              </a:r>
              <a:br>
                <a:rPr sz="1600"/>
              </a:br>
              <a:r>
                <a:rPr b="0" lang="en-US" sz="1600" spc="-1" strike="noStrike">
                  <a:solidFill>
                    <a:srgbClr val="ffff00"/>
                  </a:solidFill>
                  <a:latin typeface="Tahoma"/>
                </a:rPr>
                <a:t>Referen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2314440"/>
              <a:ext cx="165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46280" y="441360"/>
              <a:ext cx="0" cy="187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9144000" cy="4129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r" pos="887724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st-earthquake Fire Resistance of Moment Resisting Steel Frames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Faggiano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42920" y="1017720"/>
            <a:ext cx="3457440" cy="323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EXTREME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4136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2920" y="1484280"/>
            <a:ext cx="8920080" cy="230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Two orders of CATASTROPH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Tahoma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Structures damaged by earthquake, even stronger than the design on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ifferent damage ext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tructure capacity degrad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Tahoma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Structures exposed to fire after being damaged by earthqua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Undersized fire prot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164360" y="81000"/>
            <a:ext cx="1943280" cy="26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142920" y="4608360"/>
            <a:ext cx="8920080" cy="324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ASSESSMENT OF POST-EARTHQUAKE FIRE RESISTANCE OF STEEL M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2920" y="5005440"/>
            <a:ext cx="8920080" cy="871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Fire Resistance Vs Seismic Performance Levels Corre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Proposal For Seismic Design Cod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9144000" cy="412920"/>
          </a:xfrm>
          <a:prstGeom prst="rect">
            <a:avLst/>
          </a:prstGeom>
          <a:solidFill>
            <a:srgbClr val="cc0000">
              <a:alpha val="50000"/>
            </a:srgbClr>
          </a:solidFill>
          <a:ln w="0">
            <a:noFill/>
          </a:ln>
        </p:spPr>
        <p:txBody>
          <a:bodyPr lIns="90000" rIns="90000" tIns="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r" pos="887724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st-earthquake Fire Resistance of Moment Resisting Steel Frames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Faggiano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66ff33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42920" y="1017720"/>
            <a:ext cx="3457440" cy="323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EXTREME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136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1484280"/>
            <a:ext cx="8920080" cy="230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Two orders of CATASTROPH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Tahoma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Structures damaged by earthquake, even stronger than the design on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ifferent damage ext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tructure capacity degrad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Tahoma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Structures exposed to fire after being damaged by earthqua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Undersized fire prot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164360" y="81000"/>
            <a:ext cx="1943280" cy="26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42920" y="4608360"/>
            <a:ext cx="8920080" cy="324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ASSESSMENT OF POST-EARTHQUAKE FIRE RESISTANCE OF STEEL M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2920" y="5005440"/>
            <a:ext cx="8920080" cy="871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Fire Resistance Vs Seismic Performance Levels Corre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Proposal For Seismic Design Cod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12:36:20Z</dcterms:created>
  <dc:creator>Gaetano</dc:creator>
  <dc:description/>
  <dc:language>en-US</dc:language>
  <cp:lastModifiedBy>František Wald</cp:lastModifiedBy>
  <cp:lastPrinted>2001-03-28T14:57:46Z</cp:lastPrinted>
  <dcterms:modified xsi:type="dcterms:W3CDTF">2006-11-18T19:12:10Z</dcterms:modified>
  <cp:revision>448</cp:revision>
  <dc:subject/>
  <dc:title>Seismic Analysis of MR Steel Frames Based on Refined Hysteretic Models of Connections</dc:title>
</cp:coreProperties>
</file>