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F8BE-F052-42E0-BEA0-AC4DBD03BE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od afternoon ladies and gentle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is Gordon Geißler. I am a research assistent at the Institute of Statics and Dynamics of Structures of Prof. Kaliske and i am here today on behalf of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the following i give a short introduction of the institute and point out some related topics of current research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 first i want to refer to the new adress of the instit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e to structural changes the main part of the scientific staff has moved from Leipzig to Dres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w i give a very short and compressed outline of current research projects related to this working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1d4b"/>
                </a:solidFill>
                <a:latin typeface="Arial"/>
              </a:rPr>
              <a:t>Contribution </a:t>
            </a:r>
            <a:r>
              <a:rPr b="0" lang="de-DE" sz="12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1d4b"/>
                </a:solidFill>
                <a:latin typeface="Arial"/>
              </a:rPr>
              <a:t> „Schmidt / Resc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1d4b"/>
                </a:solidFill>
                <a:latin typeface="Arial"/>
              </a:rPr>
              <a:t>One field of the institut research work is the modelling and numerical simulation of wood and wooden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1d4b"/>
                </a:solidFill>
                <a:latin typeface="Arial"/>
              </a:rPr>
              <a:t>There are several supported projects with relation to different aspects of wood, as shown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1d4b"/>
                </a:solidFill>
                <a:latin typeface="Arial"/>
              </a:rPr>
              <a:t>Specifically the numerical mapping of the behaviour due to material and structural failure under several loading conditions is an component of this recent field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ibutio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Zhenggang Zhu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 other recent project deals with the numerical simulation of concrete under the application of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rrently the work is about the basic formulation of the complex coupled processes that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notes to related physical, chemical and mechanical aspects and relations are give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formulation of the temperature and moisture field is already implem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short numerical example should give an impression of the current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 concrete specimen with a given temperature on the straight boundaries and an applied heat flux at the curved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resultant temperature field with these given values in dependence of time is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bsequently the relation to the mechanical properties has to be formulated and implemented in the numerical fra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aim is to formulate an according research proposal wich could also be a contribution for the next CO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tastrophic events are always realted to fracture and failure of components and stru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ibutio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Dr. Hoffman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nly in relation to the collaborative research center „Textile strengthened reinforced concrete“ the formulation and implementation of different smeared crack aproaches becomes mater of work at the instit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mplary the application to a water tower dome and a digestion tank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ibutio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Gordon Geißl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discrete crack formulations due to cohesive zone implementation are in the focus of our current research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rrently  forwarded in terms of public supported work and as component of various ongoing research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n the left side you can see the used cohesive element formulations and on the right the application to a concrete test specimen with the numerical and experimental resultant force – displacement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ibution „M. Liebscher“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Research group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last project of this presentation is related to the destruction simulation of whole buildings under the application of a rigid body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work is supported in the second project phase by the german research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 examplary animation shows the capabilities of this ongoing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example shows a building in an urban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aim is to describe the process of destruction by blasting in an realistic and efficient way and estimate the influenced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work package of our institute contains the enhancement due to the fuzzy randomness of the whole destruct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20"/>
            <a:ext cx="9144000" cy="1052640"/>
          </a:xfrm>
          <a:prstGeom prst="rect">
            <a:avLst/>
          </a:prstGeom>
          <a:solidFill>
            <a:srgbClr val="001d4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50920" y="446040"/>
            <a:ext cx="1904760" cy="558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7920"/>
            <a:ext cx="9140760" cy="944640"/>
          </a:xfrm>
          <a:prstGeom prst="rect">
            <a:avLst/>
          </a:prstGeom>
          <a:solidFill>
            <a:srgbClr val="001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360" y="157320"/>
            <a:ext cx="2340000" cy="687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946080"/>
            <a:ext cx="9144000" cy="216000"/>
          </a:xfrm>
          <a:prstGeom prst="rect">
            <a:avLst/>
          </a:prstGeom>
          <a:solidFill>
            <a:srgbClr val="b3b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11960" y="915840"/>
            <a:ext cx="313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1d4b"/>
                </a:solidFill>
                <a:latin typeface="Verdana"/>
              </a:rPr>
              <a:t>Institute of Statics and Dynamics of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05640"/>
            <a:ext cx="9144000" cy="260280"/>
          </a:xfrm>
          <a:prstGeom prst="rect">
            <a:avLst/>
          </a:prstGeom>
          <a:solidFill>
            <a:srgbClr val="001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16720" y="6653160"/>
            <a:ext cx="1563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 </a:t>
            </a:r>
            <a:fld id="{55629B80-2CFA-4905-8BDC-F09DCC3E3F1D}" type="slidenum">
              <a:rPr b="0" lang="de-DE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120680" y="6634080"/>
            <a:ext cx="339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COST Action C26 – WG 1 – F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1d4b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1d4b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1d4b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2703240"/>
            <a:ext cx="7503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-12600" y="9540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1960" y="915840"/>
            <a:ext cx="313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Verdana"/>
              </a:rPr>
              <a:t>Institute of Statics and Dynamics of 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360" y="157320"/>
            <a:ext cx="2340000" cy="687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2" algn="ctr">
              <a:spcBef>
                <a:spcPts val="349"/>
              </a:spcBef>
              <a:buClr>
                <a:srgbClr val="001d4b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3" algn="ctr">
              <a:spcBef>
                <a:spcPts val="349"/>
              </a:spcBef>
              <a:buClr>
                <a:srgbClr val="001d4b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4" algn="ctr">
              <a:spcBef>
                <a:spcPts val="349"/>
              </a:spcBef>
              <a:buClr>
                <a:srgbClr val="001d4b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5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  <a:p>
            <a:pPr lvl="6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4b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36520" y="1771560"/>
            <a:ext cx="593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Urban habitat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under catastrophi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WG 1 -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4920" y="4210200"/>
            <a:ext cx="455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f. Michael Kali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rdon Geiß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4976640"/>
            <a:ext cx="14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8680" y="274680"/>
            <a:ext cx="431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COST Action C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52920" y="5911920"/>
            <a:ext cx="195444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Verdana"/>
              </a:rPr>
              <a:t>www.tu-dresden.de/i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4600" y="568440"/>
            <a:ext cx="253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November, 17</a:t>
            </a:r>
            <a:r>
              <a:rPr b="1" lang="de-DE" sz="1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 – 18</a:t>
            </a:r>
            <a:r>
              <a:rPr b="1" lang="de-DE" sz="1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33840" y="1305000"/>
            <a:ext cx="3314880" cy="2381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845480" y="6904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0240" y="1384560"/>
            <a:ext cx="4336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Institute of Statics and Dynamics of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Univ. Prof. Dr.-Ing. habil. Michael Kalis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resden University of Technology </a:t>
            </a:r>
            <a:br>
              <a:rPr sz="1400"/>
            </a:b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epartment of Civil Engineering </a:t>
            </a:r>
            <a:br>
              <a:rPr sz="1400"/>
            </a:b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Nürnberger Straße 31a</a:t>
            </a:r>
            <a:br>
              <a:rPr sz="1400"/>
            </a:b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-01187 Dres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elefon +49 351 463 34386 </a:t>
            </a:r>
            <a:br>
              <a:rPr sz="1400"/>
            </a:b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elefax +49 351 463 370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1360" y="4215240"/>
            <a:ext cx="6951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Current research activities with relevance to COST C26 – WG1 – 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material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 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- w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  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- 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numer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  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- simulation of fracture and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- simulation of explo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6200" y="3860640"/>
            <a:ext cx="7813440" cy="0"/>
          </a:xfrm>
          <a:prstGeom prst="line">
            <a:avLst/>
          </a:prstGeom>
          <a:ln w="31680">
            <a:solidFill>
              <a:srgbClr val="001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43218" b="30402"/>
          <a:stretch/>
        </p:blipFill>
        <p:spPr>
          <a:xfrm>
            <a:off x="1098720" y="4905360"/>
            <a:ext cx="2460600" cy="15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32360" y="3178080"/>
            <a:ext cx="3672000" cy="140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68160" y="1233360"/>
            <a:ext cx="56088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2000" spc="-1" strike="noStrike">
                <a:solidFill>
                  <a:srgbClr val="001d4b"/>
                </a:solidFill>
                <a:latin typeface="Verdana"/>
              </a:rPr>
              <a:t>Wood - Aspects of material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ylindrical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ylindrical material coordinat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uctile plastic behaviour unde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multi-surface plast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Brittle behaviour under shear and tension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hesive zone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Material uncertai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parameter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fuzzy random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Influence of knots and fiber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47680" y="69048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Verdana"/>
              </a:rPr>
              <a:t>Material Mod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51640" y="1332000"/>
            <a:ext cx="2052720" cy="159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35640" y="4533840"/>
            <a:ext cx="2362320" cy="19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871800" y="4898880"/>
            <a:ext cx="2136960" cy="14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700360" cy="2155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47680" y="690480"/>
            <a:ext cx="13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Verdana"/>
              </a:rPr>
              <a:t>Material Mod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7320" y="1233360"/>
            <a:ext cx="538632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2000" spc="-1" strike="noStrike">
                <a:solidFill>
                  <a:srgbClr val="001d4b"/>
                </a:solidFill>
                <a:latin typeface="Verdana"/>
              </a:rPr>
              <a:t>Concrete – Under application of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hermo – hydro – mechanical coupled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pore and vapo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liquid water and vapor 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hermal st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p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explosive sp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urface sp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aggregate sp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rner sp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Heat flow within the pores and on the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heat con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nv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rad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Phase change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ehyd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evaporation and cond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orption and desor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ecarbonation and </a:t>
            </a:r>
            <a:r>
              <a:rPr b="1" lang="de-DE" sz="1400" spc="-1" strike="noStrike">
                <a:solidFill>
                  <a:srgbClr val="001d4b"/>
                </a:solidFill>
                <a:latin typeface="Symbol"/>
                <a:ea typeface="Symbol"/>
              </a:rPr>
              <a:t>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-</a:t>
            </a:r>
            <a:r>
              <a:rPr b="1" lang="de-DE" sz="1400" spc="-1" strike="noStrike">
                <a:solidFill>
                  <a:srgbClr val="001d4b"/>
                </a:solidFill>
                <a:latin typeface="Symbol"/>
                <a:ea typeface="Symbol"/>
              </a:rPr>
              <a:t>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35640" y="1952640"/>
            <a:ext cx="25210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4200" y="1233360"/>
            <a:ext cx="816660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2000" spc="-1" strike="noStrike">
                <a:solidFill>
                  <a:srgbClr val="001d4b"/>
                </a:solidFill>
                <a:latin typeface="Verdana"/>
              </a:rPr>
              <a:t>Concrete – Under application of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Example: Numerical simulation of temperatur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of concrete subjected to f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he temperature field spreads extremely slow when temperature 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ncrete is not a good heat cond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Further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upled thermo-moisture-pore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mechanism of adsorbed water and dehydrated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 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when temperature is above the critical poi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2760" y="2446200"/>
            <a:ext cx="2154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ensity: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2100 kg/m</a:t>
            </a:r>
            <a:r>
              <a:rPr b="1" lang="de-DE" sz="1400" spc="-1" strike="noStrike" baseline="30000">
                <a:solidFill>
                  <a:srgbClr val="001d4b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Thermal Conductivi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1.6 W/(m</a:t>
            </a:r>
            <a:r>
              <a:rPr b="1" lang="en-US" sz="1400" spc="-1" strike="noStrike">
                <a:solidFill>
                  <a:srgbClr val="001d4b"/>
                </a:solidFill>
                <a:latin typeface="Verdana"/>
              </a:rPr>
              <a:t>·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ecific Heat Capaci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940 J/(kg</a:t>
            </a:r>
            <a:r>
              <a:rPr b="1" lang="en-US" sz="1400" spc="-1" strike="noStrike">
                <a:solidFill>
                  <a:srgbClr val="001d4b"/>
                </a:solidFill>
                <a:latin typeface="Verdana"/>
              </a:rPr>
              <a:t>·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55800" y="2290680"/>
            <a:ext cx="4876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2040" y="1233360"/>
            <a:ext cx="760032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2000" spc="-1" strike="noStrike">
                <a:solidFill>
                  <a:srgbClr val="001d4b"/>
                </a:solidFill>
                <a:latin typeface="Verdana"/>
              </a:rPr>
              <a:t>Concrete – fracture and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meared c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layered hybrid finite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      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ome of an water tower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      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 digestion t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Discrete c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hesive zone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         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cohesive element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wedge splitting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2347920"/>
            <a:ext cx="1627200" cy="126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62320" y="2346480"/>
            <a:ext cx="1633680" cy="125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19640" y="1197000"/>
            <a:ext cx="1872000" cy="252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68360" y="4761000"/>
            <a:ext cx="4689360" cy="126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472000" y="4040280"/>
            <a:ext cx="2948040" cy="2160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5440" y="690480"/>
            <a:ext cx="17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Verdana"/>
              </a:rPr>
              <a:t>Finite Element 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57600" y="1233360"/>
            <a:ext cx="5535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2000" spc="-1" strike="noStrike">
                <a:solidFill>
                  <a:srgbClr val="001d4b"/>
                </a:solidFill>
                <a:latin typeface="Verdana"/>
              </a:rPr>
              <a:t>Simulation of explo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buClr>
                <a:srgbClr val="001d4b"/>
              </a:buClr>
              <a:buFont typeface="Verdana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Supportet by „DFG“ – German Research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1d4b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400" spc="-1" strike="noStrike">
                <a:solidFill>
                  <a:srgbClr val="001d4b"/>
                </a:solidFill>
                <a:latin typeface="Verdana"/>
              </a:rPr>
              <a:t>Research group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5440" y="690480"/>
            <a:ext cx="17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Verdana"/>
              </a:rPr>
              <a:t>Finite Element Sim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2640" y="2205000"/>
            <a:ext cx="81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ctr">
              <a:lnSpc>
                <a:spcPct val="100000"/>
              </a:lnSpc>
              <a:tabLst>
                <a:tab algn="l" pos="0"/>
                <a:tab algn="l" pos="353880"/>
                <a:tab algn="l" pos="71424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„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Computerized destruction of complex supporting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ctr">
              <a:lnSpc>
                <a:spcPct val="100000"/>
              </a:lnSpc>
              <a:tabLst>
                <a:tab algn="l" pos="0"/>
                <a:tab algn="l" pos="353880"/>
                <a:tab algn="l" pos="71424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782360"/>
              </a:tabLst>
            </a:pP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1d4b"/>
                </a:solidFill>
                <a:latin typeface="Verdana"/>
              </a:rPr>
              <a:t>by blasting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03200" y="2809800"/>
          <a:ext cx="653760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2809800"/>
                    <a:ext cx="65376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36600" y="130500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23:28Z</dcterms:created>
  <dc:creator>Christiane Morgner</dc:creator>
  <dc:description/>
  <dc:language>en-US</dc:language>
  <cp:lastModifiedBy>František Wald</cp:lastModifiedBy>
  <dcterms:modified xsi:type="dcterms:W3CDTF">2006-11-18T19:20:36Z</dcterms:modified>
  <cp:revision>1359</cp:revision>
  <dc:subject/>
  <dc:title>Folie 1</dc:title>
</cp:coreProperties>
</file>