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432-E93B-4C4B-B257-CC6B8F31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712-AD39-4599-AC00-0B0EF501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05C-17B8-4F83-BEB1-28481F10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887-FCDB-437B-B781-0F63A86E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550-1EBE-4B01-B61A-48A74209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D16-E009-4AB8-BF58-DB726C1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F36-658E-448C-8B57-F9FA6E5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5A17-9BA1-4A29-A185-824863DF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367B-5D83-4E8A-8A96-0F4092C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D9E-CD86-46CC-931C-8BE2C9BC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79FC-C34B-4C00-9235-FB6E458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FB8-3C69-45AF-B0B1-0D671684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097D-EC7D-4452-A101-D796AF2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84D9-15FA-4F8B-812B-557B1CC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C3CC-4882-426E-A3B3-ADE84459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37D7-CB4F-4558-9FB5-CDEBBA12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EB0-FD1C-4384-9B88-40F01B85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FDA-D978-4218-B2B4-4FE6CE2D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C8D-CF4F-40CE-B48A-3728637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C65-530F-47F0-9C3C-0D20F8E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D28-7A36-4A89-B0AC-6E31A2AD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C10-4F2E-4A49-AAAD-C8C9392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EE4-3E20-46C8-BC1A-E27E7287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65E-14AF-4C10-81C9-363D9A9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ED4-940B-497D-951D-36D8CF25CC2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CCD-DEF0-49DB-8F37-9AD18C2C807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Dr Martin Gilli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D, 2000 University of Edinburgh  - Numerical modelling of structures in f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Fellow 20001-20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y 2002-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ctur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tingham 2003-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inburgh 2005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48360" y="3500280"/>
            <a:ext cx="3690720" cy="3129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e Safety Engineering Grou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r. Carvel (PredFireNan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. Switzer (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of. Rivera (FireParado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97000"/>
            <a:ext cx="51483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Prof. Dougal Drysdale (Emerit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Prof Jose L. Torero  (Fire dynamic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Gillie (Structures in fi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Welch (Fire dynamic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Asif Usmani  (Structures in fi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Rein (Fire dynamics, solid combus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Stratfor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r Gerh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Interes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sign against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derstand structural behaviour in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sign against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ve away from simple fire prot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ll-scale fire tests at Dalmarn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rge-scale finite element mod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ling of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cked in str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velling fire (vertically and horizontal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habilitation of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reGr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egrated response to emer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al-time compu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n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al Cool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620640"/>
            <a:ext cx="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068640"/>
            <a:ext cx="518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60840" y="220500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chanical strain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20" y="5493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3141720"/>
            <a:ext cx="360360" cy="19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295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203280" y="1267920"/>
            <a:ext cx="1152360" cy="381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42920" y="1268280"/>
            <a:ext cx="216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6021360"/>
            <a:ext cx="5256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80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551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8039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609300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73264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601992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6308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280" y="61801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form heating then coo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6440" y="409248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ression d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9360" y="200340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nsion d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es Cool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2924280"/>
            <a:ext cx="540072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421000"/>
            <a:ext cx="540072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r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421000"/>
            <a:ext cx="212400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40720" y="2924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2924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0720" y="3573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101080" y="292392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220500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49228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068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7813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42900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328464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23493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2637000"/>
            <a:ext cx="3603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21300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925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35733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342900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50360" y="15717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osite b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520" y="150012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x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tra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84360" y="4149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734080"/>
            <a:ext cx="712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4125960"/>
            <a:ext cx="5688000" cy="1608120"/>
          </a:xfrm>
          <a:custGeom>
            <a:avLst/>
            <a:gdLst/>
            <a:ahLst/>
            <a:rect l="l" t="t" r="r" b="b"/>
            <a:pathLst>
              <a:path w="3583" h="1013">
                <a:moveTo>
                  <a:pt x="0" y="1013"/>
                </a:moveTo>
                <a:cubicBezTo>
                  <a:pt x="15" y="858"/>
                  <a:pt x="54" y="710"/>
                  <a:pt x="136" y="559"/>
                </a:cubicBezTo>
                <a:cubicBezTo>
                  <a:pt x="218" y="408"/>
                  <a:pt x="356" y="175"/>
                  <a:pt x="492" y="107"/>
                </a:cubicBezTo>
                <a:cubicBezTo>
                  <a:pt x="628" y="39"/>
                  <a:pt x="437" y="0"/>
                  <a:pt x="952" y="151"/>
                </a:cubicBezTo>
                <a:cubicBezTo>
                  <a:pt x="1467" y="302"/>
                  <a:pt x="2513" y="654"/>
                  <a:pt x="3583" y="10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10760" y="60357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880" y="409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781360"/>
            <a:ext cx="540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77000" y="16430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strumented re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1989000"/>
            <a:ext cx="936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4221000"/>
            <a:ext cx="1008000" cy="936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67640" y="4365720"/>
            <a:ext cx="72072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67640" y="4581360"/>
            <a:ext cx="7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5280" y="4581360"/>
            <a:ext cx="7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4365720"/>
            <a:ext cx="727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4870440"/>
            <a:ext cx="7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7640" y="38037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low re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9240" y="55324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101080" y="5013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14972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4000" y="6021360"/>
            <a:ext cx="3311280" cy="520560"/>
          </a:xfrm>
          <a:prstGeom prst="rect">
            <a:avLst/>
          </a:prstGeom>
          <a:solidFill>
            <a:srgbClr val="8c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dddddd"/>
                </a:solidFill>
                <a:latin typeface="Arial"/>
              </a:rPr>
              <a:t>23-Storey T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2602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1313"/>
                </a:solidFill>
                <a:latin typeface="Arial Black"/>
              </a:rPr>
              <a:t>Genera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9280" y="189000"/>
            <a:ext cx="718920" cy="360360"/>
            <a:chOff x="179280" y="189000"/>
            <a:chExt cx="718920" cy="360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539640" y="189000"/>
              <a:ext cx="3585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179280" y="260280"/>
              <a:ext cx="288720" cy="20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3708360" y="1052640"/>
            <a:ext cx="5111640" cy="2881080"/>
            <a:chOff x="3708360" y="1052640"/>
            <a:chExt cx="5111640" cy="2881080"/>
          </a:xfrm>
        </p:grpSpPr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4606920" y="1052640"/>
              <a:ext cx="21621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708360" y="2852640"/>
              <a:ext cx="1548000" cy="432000"/>
            </a:xfrm>
            <a:prstGeom prst="wedgeRoundRectCallout">
              <a:avLst>
                <a:gd name="adj1" fmla="val 50203"/>
                <a:gd name="adj2" fmla="val -268013"/>
                <a:gd name="adj3" fmla="val 16667"/>
              </a:avLst>
            </a:prstGeom>
            <a:solidFill>
              <a:srgbClr val="ff00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720000"/>
                  </a:solidFill>
                  <a:latin typeface="Arial"/>
                </a:rPr>
                <a:t>4th Fl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3080" y="1628640"/>
              <a:ext cx="1726920" cy="925560"/>
            </a:xfrm>
            <a:prstGeom prst="wedgeRoundRectCallout">
              <a:avLst>
                <a:gd name="adj1" fmla="val -148712"/>
                <a:gd name="adj2" fmla="val -56175"/>
                <a:gd name="adj3" fmla="val 16667"/>
              </a:avLst>
            </a:prstGeom>
            <a:solidFill>
              <a:srgbClr val="ff00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720000"/>
                  </a:solidFill>
                  <a:latin typeface="Arial"/>
                </a:rPr>
                <a:t>Experiment Compartment Sh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284720" y="3789360"/>
            <a:ext cx="4321080" cy="2755800"/>
            <a:chOff x="4284720" y="3789360"/>
            <a:chExt cx="4321080" cy="2755800"/>
          </a:xfrm>
        </p:grpSpPr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4932360" y="3789360"/>
              <a:ext cx="36734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284720" y="4581360"/>
              <a:ext cx="1582560" cy="432000"/>
            </a:xfrm>
            <a:prstGeom prst="wedgeRoundRectCallout">
              <a:avLst>
                <a:gd name="adj1" fmla="val 76782"/>
                <a:gd name="adj2" fmla="val -12500"/>
                <a:gd name="adj3" fmla="val 16667"/>
              </a:avLst>
            </a:prstGeom>
            <a:solidFill>
              <a:srgbClr val="ff00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720000"/>
                  </a:solidFill>
                  <a:latin typeface="Arial"/>
                </a:rPr>
                <a:t>4th Fl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1:22:29Z</dcterms:created>
  <dc:creator>mgillie</dc:creator>
  <dc:description/>
  <dc:language>en-US</dc:language>
  <cp:lastModifiedBy>František Wald</cp:lastModifiedBy>
  <dcterms:modified xsi:type="dcterms:W3CDTF">2006-11-18T19:21:22Z</dcterms:modified>
  <cp:revision>9</cp:revision>
  <dc:subject/>
  <dc:title>Dr Martin Gillie</dc:title>
</cp:coreProperties>
</file>