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4.jpeg" ContentType="image/jpeg"/>
  <Override PartName="/ppt/media/image8.png" ContentType="image/png"/>
  <Override PartName="/ppt/media/image28.jpeg" ContentType="image/jpeg"/>
  <Override PartName="/ppt/media/image7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20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70CC-9163-4765-B613-801EEBEE6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2D36-F17B-45C7-B1A0-EB38F70F3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6165-D98E-4E8C-BD93-7FC955248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A312-059F-4C3C-80F2-8BD7299BA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9840" y="0"/>
            <a:ext cx="84438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AA77-C4B0-4AB4-8C50-DAF180804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9E7F-316B-40B6-B3EB-6C392B000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A788-B9D5-4720-BE80-0007675A2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BAD2-577B-4360-9CEC-BE443D54C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99840" y="0"/>
            <a:ext cx="844380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6796-DF58-48F8-A7E5-8157FD81A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F391-E559-4979-8A71-26CDCF41E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D69F-BB14-43A7-A54F-CCDDCBDEE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09D3-75A6-4B04-B1E0-58A4834C4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320" y="6541560"/>
            <a:ext cx="434880" cy="2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E83B-62F4-4724-BBDF-0A93158C3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127080"/>
            <a:ext cx="1665360" cy="78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75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8080"/>
              </a:buClr>
              <a:buSzPct val="65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SzPct val="65000"/>
              <a:buFont typeface="Arial"/>
              <a:buChar char="v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SzPct val="65000"/>
              <a:buFont typeface="Arial"/>
              <a:buChar char="u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-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7360" cy="59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11200" y="-360"/>
            <a:ext cx="6832440" cy="138276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ness of Steel Connections in F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39560" y="1209600"/>
            <a:ext cx="8383680" cy="4810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ve projec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Sheffield + University of Manchest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the performance of joints in fire, especially their ability to act as ties to maintain structural integr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75000"/>
              <a:buFont typeface="Arial"/>
              <a:buAutoNum type="arabicPeriod" startAt="3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temperatur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al testing and modelling of joints (Manchester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75000"/>
              <a:buFont typeface="Arial"/>
              <a:buAutoNum type="arabicPeriod" startAt="3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robustnes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steel joints to be tested at elevated temperatures and rationalised via FE modelling (Sheffield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75000"/>
              <a:buFont typeface="Arial"/>
              <a:buAutoNum type="arabicPeriod" startAt="3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mod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created for analysis of these connections in full-frame softwar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SzPct val="75000"/>
              <a:buFont typeface="Arial"/>
              <a:buAutoNum type="arabicPeriod" startAt="3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frame te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done towards the end to validate compnent mode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Failure modes of b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71360" y="743040"/>
            <a:ext cx="4951440" cy="3713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436" name=""/>
          <p:cNvGraphicFramePr/>
          <p:nvPr/>
        </p:nvGraphicFramePr>
        <p:xfrm>
          <a:off x="4392720" y="2944800"/>
          <a:ext cx="4565520" cy="3711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92720" y="2944800"/>
                    <a:ext cx="4565520" cy="3711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423720" y="4764240"/>
            <a:ext cx="35337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GD: Black bolts with grade 8 nuts,  6H/6g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hreads of nuts stripped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62240" y="0"/>
            <a:ext cx="41814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Animation of bol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579680" y="1857240"/>
            <a:ext cx="5802120" cy="43513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579680" y="1855800"/>
            <a:ext cx="5802120" cy="43513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1579680" y="1855800"/>
            <a:ext cx="5802120" cy="43513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1579680" y="1857240"/>
            <a:ext cx="5802120" cy="43513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1579680" y="1857240"/>
            <a:ext cx="5802120" cy="43513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6"/>
          <a:stretch/>
        </p:blipFill>
        <p:spPr>
          <a:xfrm>
            <a:off x="1579680" y="1857240"/>
            <a:ext cx="5802120" cy="43498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7"/>
          <a:stretch/>
        </p:blipFill>
        <p:spPr>
          <a:xfrm>
            <a:off x="1579680" y="1855800"/>
            <a:ext cx="5802120" cy="43513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8"/>
          <a:stretch/>
        </p:blipFill>
        <p:spPr>
          <a:xfrm>
            <a:off x="1579680" y="1855800"/>
            <a:ext cx="5802120" cy="43513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9"/>
          <a:stretch/>
        </p:blipFill>
        <p:spPr>
          <a:xfrm>
            <a:off x="1579680" y="1855800"/>
            <a:ext cx="5802120" cy="43513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0"/>
          <a:stretch/>
        </p:blipFill>
        <p:spPr>
          <a:xfrm>
            <a:off x="1579680" y="1857240"/>
            <a:ext cx="5802120" cy="43498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1"/>
          <a:stretch/>
        </p:blipFill>
        <p:spPr>
          <a:xfrm>
            <a:off x="1579680" y="1857240"/>
            <a:ext cx="5802120" cy="43498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12"/>
          <a:stretch/>
        </p:blipFill>
        <p:spPr>
          <a:xfrm>
            <a:off x="1579680" y="1855800"/>
            <a:ext cx="5802120" cy="43513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13"/>
          <a:stretch/>
        </p:blipFill>
        <p:spPr>
          <a:xfrm>
            <a:off x="1579680" y="1855800"/>
            <a:ext cx="5802120" cy="43513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14"/>
          <a:stretch/>
        </p:blipFill>
        <p:spPr>
          <a:xfrm>
            <a:off x="1579680" y="1855800"/>
            <a:ext cx="5802120" cy="43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-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al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6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fire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connection types to column major axis: fin plate, flexible end plate, flush end plate, web cleats. Connection to column minor axis: fin 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fire protection (intumescent coating) schemes: no protection, column, column + beams, column + beams + bo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erature measurements in beams, columns, connectors, shear studs, decking, reinforcement, conc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600200" y="4076640"/>
            <a:ext cx="5486040" cy="2781360"/>
            <a:chOff x="1600200" y="4076640"/>
            <a:chExt cx="5486040" cy="2781360"/>
          </a:xfrm>
        </p:grpSpPr>
        <p:pic>
          <p:nvPicPr>
            <p:cNvPr id="457" name="" descr=""/>
            <p:cNvPicPr/>
            <p:nvPr/>
          </p:nvPicPr>
          <p:blipFill>
            <a:blip r:embed="rId1"/>
            <a:srcRect l="0" t="6007" r="0" b="0"/>
            <a:stretch/>
          </p:blipFill>
          <p:spPr>
            <a:xfrm>
              <a:off x="1600200" y="4076640"/>
              <a:ext cx="2733480" cy="26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2"/>
            <a:stretch/>
          </p:blipFill>
          <p:spPr>
            <a:xfrm>
              <a:off x="4457520" y="4076640"/>
              <a:ext cx="2628720" cy="27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-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678204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ABAQ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ibrate Eurocode calculation procedure: method of calculating effective section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ise fire protection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905120" y="3390840"/>
            <a:ext cx="5371920" cy="3086280"/>
            <a:chOff x="1905120" y="3390840"/>
            <a:chExt cx="5371920" cy="3086280"/>
          </a:xfrm>
        </p:grpSpPr>
        <p:pic>
          <p:nvPicPr>
            <p:cNvPr id="462" name="" descr=""/>
            <p:cNvPicPr/>
            <p:nvPr/>
          </p:nvPicPr>
          <p:blipFill>
            <a:blip r:embed="rId1"/>
            <a:stretch/>
          </p:blipFill>
          <p:spPr>
            <a:xfrm>
              <a:off x="1905120" y="3504960"/>
              <a:ext cx="2628720" cy="29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2"/>
            <a:stretch/>
          </p:blipFill>
          <p:spPr>
            <a:xfrm>
              <a:off x="4762440" y="3390840"/>
              <a:ext cx="2514600" cy="30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4190760" y="5333760"/>
              <a:ext cx="914040" cy="100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-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Fire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3520" indent="-26352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 fire exposure, same connection types as in thermal tests, unprotected, composite 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umns to provide longitudinal restraint to beams: beams in bending and catenary action until connection 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beam loading levels (max. &amp; min.), two column sizes (for beam bending only/for beam in catenary 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ion (fin plate/flush end plate) behaviour in c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rcRect l="0" t="-3860" r="0" b="0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48320" y="3484440"/>
            <a:ext cx="44956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-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2280960"/>
            <a:ext cx="7391520" cy="322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BAQUS: solid and shell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variation of forces in connectors during heating and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with VULCAN analyses: global behaviour of beams/columns + component based representation of conn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robust connecti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to be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47680" y="820800"/>
            <a:ext cx="2527200" cy="2133000"/>
            <a:chOff x="247680" y="820800"/>
            <a:chExt cx="2527200" cy="2133000"/>
          </a:xfrm>
        </p:grpSpPr>
        <p:sp>
          <p:nvSpPr>
            <p:cNvPr id="473" name=""/>
            <p:cNvSpPr/>
            <p:nvPr/>
          </p:nvSpPr>
          <p:spPr>
            <a:xfrm>
              <a:off x="247680" y="1083960"/>
              <a:ext cx="2495520" cy="186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0800" y="820800"/>
              <a:ext cx="88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1760" y="1150920"/>
              <a:ext cx="19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JOINT TES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80" y="1585800"/>
              <a:ext cx="2502000" cy="11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spcAft>
                  <a:spcPts val="876"/>
                </a:spcAft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ish testing four types of joint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spcAft>
                  <a:spcPts val="876"/>
                </a:spcAft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4+ specimen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581880" y="4622760"/>
            <a:ext cx="2323800" cy="1836000"/>
            <a:chOff x="6581880" y="4622760"/>
            <a:chExt cx="2323800" cy="1836000"/>
          </a:xfrm>
        </p:grpSpPr>
        <p:sp>
          <p:nvSpPr>
            <p:cNvPr id="478" name=""/>
            <p:cNvSpPr/>
            <p:nvPr/>
          </p:nvSpPr>
          <p:spPr>
            <a:xfrm>
              <a:off x="6581880" y="5450040"/>
              <a:ext cx="232380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t models in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obal structural analysis progra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325640" y="4622760"/>
              <a:ext cx="500760" cy="719280"/>
            </a:xfrm>
            <a:prstGeom prst="downArrow">
              <a:avLst>
                <a:gd name="adj1" fmla="val 50000"/>
                <a:gd name="adj2" fmla="val 3590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039760" y="5510160"/>
            <a:ext cx="4469040" cy="703800"/>
            <a:chOff x="2039760" y="5510160"/>
            <a:chExt cx="4469040" cy="703800"/>
          </a:xfrm>
        </p:grpSpPr>
        <p:sp>
          <p:nvSpPr>
            <p:cNvPr id="481" name=""/>
            <p:cNvSpPr/>
            <p:nvPr/>
          </p:nvSpPr>
          <p:spPr>
            <a:xfrm>
              <a:off x="2039760" y="5510160"/>
              <a:ext cx="3229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UB-FRAME TESTIN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University of Manchest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4120" y="5769000"/>
              <a:ext cx="1174680" cy="379440"/>
            </a:xfrm>
            <a:prstGeom prst="leftRightArrow">
              <a:avLst>
                <a:gd name="adj1" fmla="val 50000"/>
                <a:gd name="adj2" fmla="val 616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71080" y="5537160"/>
              <a:ext cx="127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alid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818320" y="879480"/>
            <a:ext cx="3134880" cy="3613320"/>
            <a:chOff x="5818320" y="879480"/>
            <a:chExt cx="3134880" cy="3613320"/>
          </a:xfrm>
        </p:grpSpPr>
        <p:grpSp>
          <p:nvGrpSpPr>
            <p:cNvPr id="485" name=""/>
            <p:cNvGrpSpPr/>
            <p:nvPr/>
          </p:nvGrpSpPr>
          <p:grpSpPr>
            <a:xfrm>
              <a:off x="6350040" y="879480"/>
              <a:ext cx="2603160" cy="3613320"/>
              <a:chOff x="6350040" y="879480"/>
              <a:chExt cx="2603160" cy="361332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6350040" y="879480"/>
                <a:ext cx="2512440" cy="3613320"/>
                <a:chOff x="6350040" y="879480"/>
                <a:chExt cx="2512440" cy="361332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6350040" y="879480"/>
                  <a:ext cx="2512440" cy="361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540480" y="939240"/>
                  <a:ext cx="228384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SIMPLE MODEL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6389280" y="1320120"/>
                <a:ext cx="2563920" cy="312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82520" indent="-182520">
                  <a:spcAft>
                    <a:spcPts val="751"/>
                  </a:spcAft>
                  <a:buClr>
                    <a:srgbClr val="ff0000"/>
                  </a:buClr>
                  <a:buFont typeface="Wingdings" charset="2"/>
                  <a:buChar char="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dapt the T-stub model to endplate type joint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82520" indent="-182520">
                  <a:spcAft>
                    <a:spcPts val="751"/>
                  </a:spcAft>
                  <a:buClr>
                    <a:srgbClr val="ff0000"/>
                  </a:buClr>
                  <a:buFont typeface="Wingdings" charset="2"/>
                  <a:buChar char="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velop models for fin plate joints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82520" indent="-182520">
                  <a:spcAft>
                    <a:spcPts val="751"/>
                  </a:spcAft>
                  <a:buClr>
                    <a:srgbClr val="ff0000"/>
                  </a:buClr>
                  <a:buFont typeface="Wingdings" charset="2"/>
                  <a:buChar char="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velop models for web-cleat joint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82520" indent="-182520">
                  <a:buClr>
                    <a:srgbClr val="ff0000"/>
                  </a:buClr>
                  <a:buFont typeface="Wingdings" charset="2"/>
                  <a:buChar char="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velop simplified thermal model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5818320" y="2712960"/>
              <a:ext cx="436320" cy="4492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52360" y="2936880"/>
            <a:ext cx="2527200" cy="2133720"/>
            <a:chOff x="252360" y="2936880"/>
            <a:chExt cx="2527200" cy="2133720"/>
          </a:xfrm>
        </p:grpSpPr>
        <p:sp>
          <p:nvSpPr>
            <p:cNvPr id="492" name=""/>
            <p:cNvSpPr/>
            <p:nvPr/>
          </p:nvSpPr>
          <p:spPr>
            <a:xfrm>
              <a:off x="252360" y="3200400"/>
              <a:ext cx="2495520" cy="18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5480" y="2936880"/>
              <a:ext cx="88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6440" y="3267000"/>
              <a:ext cx="232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HERMAL TES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7920" y="3701880"/>
              <a:ext cx="2501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spcAft>
                  <a:spcPts val="876"/>
                </a:spcAft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mperature distributions for different joints &amp; fir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844720" y="1244520"/>
            <a:ext cx="2876760" cy="3342960"/>
            <a:chOff x="2844720" y="1244520"/>
            <a:chExt cx="2876760" cy="3342960"/>
          </a:xfrm>
        </p:grpSpPr>
        <p:grpSp>
          <p:nvGrpSpPr>
            <p:cNvPr id="497" name=""/>
            <p:cNvGrpSpPr/>
            <p:nvPr/>
          </p:nvGrpSpPr>
          <p:grpSpPr>
            <a:xfrm>
              <a:off x="3367080" y="1244520"/>
              <a:ext cx="2354400" cy="3342960"/>
              <a:chOff x="3367080" y="1244520"/>
              <a:chExt cx="2354400" cy="3342960"/>
            </a:xfrm>
          </p:grpSpPr>
          <p:sp>
            <p:nvSpPr>
              <p:cNvPr id="498" name=""/>
              <p:cNvSpPr/>
              <p:nvPr/>
            </p:nvSpPr>
            <p:spPr>
              <a:xfrm>
                <a:off x="3367080" y="1244520"/>
                <a:ext cx="2352600" cy="3342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91640" y="1255320"/>
                <a:ext cx="207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FEM ANALYSI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16400" y="1717560"/>
                <a:ext cx="2305080" cy="28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82520" indent="-182520">
                  <a:spcAft>
                    <a:spcPts val="1250"/>
                  </a:spcAft>
                  <a:buClr>
                    <a:srgbClr val="ff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imulate the test resul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82520" indent="-182520">
                  <a:spcAft>
                    <a:spcPts val="1250"/>
                  </a:spcAft>
                  <a:buClr>
                    <a:srgbClr val="ff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tudy the failure mechanis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82520" indent="-182520">
                  <a:spcAft>
                    <a:spcPts val="1250"/>
                  </a:spcAft>
                  <a:buClr>
                    <a:srgbClr val="ff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vide theoretical bases for the simple model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844720" y="1739880"/>
              <a:ext cx="436680" cy="4492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49400" y="3745080"/>
              <a:ext cx="436680" cy="4489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6259680"/>
            <a:ext cx="1827360" cy="59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097880" y="3247200"/>
            <a:ext cx="1264680" cy="1064880"/>
            <a:chOff x="4097880" y="3247200"/>
            <a:chExt cx="1264680" cy="1064880"/>
          </a:xfrm>
        </p:grpSpPr>
        <p:sp>
          <p:nvSpPr>
            <p:cNvPr id="82" name=""/>
            <p:cNvSpPr/>
            <p:nvPr/>
          </p:nvSpPr>
          <p:spPr>
            <a:xfrm rot="739200">
              <a:off x="4175280" y="3355560"/>
              <a:ext cx="1109520" cy="847800"/>
            </a:xfrm>
            <a:custGeom>
              <a:avLst/>
              <a:gdLst/>
              <a:ahLst/>
              <a:rect l="l" t="t" r="r" b="b"/>
              <a:pathLst>
                <a:path w="699" h="534">
                  <a:moveTo>
                    <a:pt x="123" y="534"/>
                  </a:moveTo>
                  <a:lnTo>
                    <a:pt x="0" y="234"/>
                  </a:lnTo>
                  <a:lnTo>
                    <a:pt x="579" y="0"/>
                  </a:lnTo>
                  <a:lnTo>
                    <a:pt x="699" y="297"/>
                  </a:lnTo>
                  <a:lnTo>
                    <a:pt x="123" y="534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30196"/>
                  </a:srgbClr>
                </a:gs>
                <a:gs pos="100000">
                  <a:srgbClr val="3b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02280" y="3448080"/>
              <a:ext cx="1059480" cy="656640"/>
              <a:chOff x="4202280" y="3448080"/>
              <a:chExt cx="1059480" cy="656640"/>
            </a:xfrm>
          </p:grpSpPr>
          <p:sp>
            <p:nvSpPr>
              <p:cNvPr id="84" name=""/>
              <p:cNvSpPr/>
              <p:nvPr/>
            </p:nvSpPr>
            <p:spPr>
              <a:xfrm flipV="1">
                <a:off x="4202280" y="3448440"/>
                <a:ext cx="974160" cy="16992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75720" y="3448080"/>
                <a:ext cx="85320" cy="4863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287600" y="3935160"/>
                <a:ext cx="974160" cy="1695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 rot="739200">
              <a:off x="5212800" y="3692160"/>
              <a:ext cx="5508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205880" y="3473640"/>
              <a:ext cx="977760" cy="1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82200" y="3907800"/>
              <a:ext cx="967680" cy="16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381480" y="3029040"/>
            <a:ext cx="1081080" cy="1719000"/>
          </a:xfrm>
          <a:custGeom>
            <a:avLst/>
            <a:gdLst/>
            <a:ahLst/>
            <a:rect l="l" t="t" r="r" b="b"/>
            <a:pathLst>
              <a:path w="681" h="1083">
                <a:moveTo>
                  <a:pt x="0" y="111"/>
                </a:moveTo>
                <a:lnTo>
                  <a:pt x="288" y="0"/>
                </a:lnTo>
                <a:lnTo>
                  <a:pt x="681" y="966"/>
                </a:lnTo>
                <a:lnTo>
                  <a:pt x="390" y="1083"/>
                </a:lnTo>
                <a:lnTo>
                  <a:pt x="0" y="111"/>
                </a:lnTo>
                <a:close/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>
                  <a:alpha val="30196"/>
                </a:srgbClr>
              </a:gs>
              <a:gs pos="100000">
                <a:srgbClr val="3b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acility and tes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3520" y="4851360"/>
            <a:ext cx="117360" cy="43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59440" y="4724280"/>
            <a:ext cx="414360" cy="12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55920" y="4073760"/>
            <a:ext cx="124560" cy="83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59520" y="3744720"/>
            <a:ext cx="25092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0" y="4103640"/>
            <a:ext cx="0" cy="74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0" y="2867040"/>
            <a:ext cx="222408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64080" y="4103640"/>
            <a:ext cx="0" cy="74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0" y="4844880"/>
            <a:ext cx="222408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92320" y="4103640"/>
            <a:ext cx="1800" cy="98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92320" y="5091120"/>
            <a:ext cx="271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711760" y="4103280"/>
            <a:ext cx="1800" cy="98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992320" y="2620800"/>
            <a:ext cx="2719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79560" y="5103720"/>
            <a:ext cx="6799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98760" y="1986120"/>
            <a:ext cx="0" cy="310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0960" y="1984320"/>
            <a:ext cx="0" cy="311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992320" y="4103640"/>
            <a:ext cx="247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0" y="2867040"/>
            <a:ext cx="0" cy="74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92320" y="3608280"/>
            <a:ext cx="247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92320" y="2620440"/>
            <a:ext cx="1800" cy="98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64080" y="2867040"/>
            <a:ext cx="0" cy="74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11760" y="2620800"/>
            <a:ext cx="1800" cy="98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64080" y="3608280"/>
            <a:ext cx="24768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64080" y="4103640"/>
            <a:ext cx="24768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387600" y="3027600"/>
            <a:ext cx="458640" cy="18216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91560" y="3210840"/>
            <a:ext cx="619200" cy="154908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560" y="3024720"/>
            <a:ext cx="627480" cy="155268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6227640"/>
            <a:ext cx="67993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79560" y="5100480"/>
            <a:ext cx="0" cy="112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78880" y="5091120"/>
            <a:ext cx="0" cy="112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98760" y="3608280"/>
            <a:ext cx="104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8760" y="4103640"/>
            <a:ext cx="1238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128320" y="1969920"/>
            <a:ext cx="9720" cy="312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92760" y="1984320"/>
            <a:ext cx="9720" cy="311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0680" y="3127320"/>
            <a:ext cx="1852920" cy="19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011840" y="4562640"/>
            <a:ext cx="458280" cy="18360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30720" y="3535200"/>
            <a:ext cx="82872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954760" y="3751200"/>
            <a:ext cx="37764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54760" y="4027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54760" y="3905280"/>
            <a:ext cx="21420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30920" y="5283360"/>
            <a:ext cx="687240" cy="607680"/>
          </a:xfrm>
          <a:prstGeom prst="rect">
            <a:avLst/>
          </a:prstGeom>
          <a:solidFill>
            <a:srgbClr val="ffffff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58910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5896080"/>
            <a:ext cx="1299960" cy="9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81640" y="3726000"/>
            <a:ext cx="5724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27760" y="3868560"/>
            <a:ext cx="5724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8720" y="4694400"/>
            <a:ext cx="5724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32240" y="3703680"/>
            <a:ext cx="81936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31080" y="4032360"/>
            <a:ext cx="5688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48440" y="4888080"/>
            <a:ext cx="5724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09920" y="2268360"/>
            <a:ext cx="149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n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64480" y="2778120"/>
            <a:ext cx="1498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fr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13480" y="5359320"/>
            <a:ext cx="19479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 J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36640" y="1449360"/>
            <a:ext cx="5496120" cy="52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613320" y="1963800"/>
            <a:ext cx="0" cy="11714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43800" y="1982880"/>
            <a:ext cx="9360" cy="31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7040" y="1982880"/>
            <a:ext cx="0" cy="31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3920" y="3182760"/>
            <a:ext cx="1790640" cy="19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7160" y="3714840"/>
            <a:ext cx="1309680" cy="13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10400" y="3660840"/>
            <a:ext cx="1343160" cy="14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63840" y="1974960"/>
            <a:ext cx="0" cy="31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088720" y="1982880"/>
            <a:ext cx="9720" cy="313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6640" y="149400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9880" y="19350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87480" y="5168880"/>
            <a:ext cx="679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87480" y="6164280"/>
            <a:ext cx="6799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6680" y="3645000"/>
            <a:ext cx="10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6680" y="4059360"/>
            <a:ext cx="120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3880" y="3190320"/>
            <a:ext cx="619200" cy="15490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11320" y="3032640"/>
            <a:ext cx="627480" cy="15526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100400" y="3281400"/>
            <a:ext cx="1109880" cy="847800"/>
            <a:chOff x="4100400" y="3281400"/>
            <a:chExt cx="1109880" cy="847800"/>
          </a:xfrm>
        </p:grpSpPr>
        <p:sp>
          <p:nvSpPr>
            <p:cNvPr id="161" name=""/>
            <p:cNvSpPr/>
            <p:nvPr/>
          </p:nvSpPr>
          <p:spPr>
            <a:xfrm>
              <a:off x="4100400" y="3281400"/>
              <a:ext cx="1109880" cy="847800"/>
            </a:xfrm>
            <a:custGeom>
              <a:avLst/>
              <a:gdLst/>
              <a:ahLst/>
              <a:rect l="l" t="t" r="r" b="b"/>
              <a:pathLst>
                <a:path w="699" h="534">
                  <a:moveTo>
                    <a:pt x="123" y="534"/>
                  </a:moveTo>
                  <a:lnTo>
                    <a:pt x="0" y="234"/>
                  </a:lnTo>
                  <a:lnTo>
                    <a:pt x="579" y="0"/>
                  </a:lnTo>
                  <a:lnTo>
                    <a:pt x="699" y="297"/>
                  </a:lnTo>
                  <a:lnTo>
                    <a:pt x="123" y="534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30196"/>
                  </a:srgbClr>
                </a:gs>
                <a:gs pos="100000">
                  <a:srgbClr val="3b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105440" y="3286080"/>
              <a:ext cx="1103040" cy="831240"/>
              <a:chOff x="4105440" y="3286080"/>
              <a:chExt cx="1103040" cy="831240"/>
            </a:xfrm>
          </p:grpSpPr>
          <p:sp>
            <p:nvSpPr>
              <p:cNvPr id="163" name=""/>
              <p:cNvSpPr/>
              <p:nvPr/>
            </p:nvSpPr>
            <p:spPr>
              <a:xfrm flipV="1">
                <a:off x="4105440" y="3286440"/>
                <a:ext cx="915840" cy="37368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20560" y="3286080"/>
                <a:ext cx="187200" cy="45684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292640" y="3743640"/>
                <a:ext cx="915840" cy="37368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5114880" y="3510000"/>
              <a:ext cx="554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114800" y="3309480"/>
              <a:ext cx="91908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81480" y="3719520"/>
              <a:ext cx="909720" cy="37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95560" y="2624040"/>
            <a:ext cx="2710080" cy="976320"/>
          </a:xfrm>
          <a:custGeom>
            <a:avLst/>
            <a:gdLst/>
            <a:ahLst/>
            <a:rect l="l" t="t" r="r" b="b"/>
            <a:pathLst>
              <a:path w="1707" h="615">
                <a:moveTo>
                  <a:pt x="150" y="606"/>
                </a:moveTo>
                <a:lnTo>
                  <a:pt x="0" y="609"/>
                </a:lnTo>
                <a:lnTo>
                  <a:pt x="0" y="0"/>
                </a:lnTo>
                <a:lnTo>
                  <a:pt x="1701" y="0"/>
                </a:lnTo>
                <a:lnTo>
                  <a:pt x="1707" y="615"/>
                </a:lnTo>
                <a:lnTo>
                  <a:pt x="1557" y="615"/>
                </a:lnTo>
                <a:lnTo>
                  <a:pt x="1560" y="150"/>
                </a:lnTo>
                <a:lnTo>
                  <a:pt x="150" y="150"/>
                </a:lnTo>
                <a:lnTo>
                  <a:pt x="150" y="6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0240" y="4110120"/>
            <a:ext cx="2710080" cy="971640"/>
          </a:xfrm>
          <a:custGeom>
            <a:avLst/>
            <a:gdLst/>
            <a:ahLst/>
            <a:rect l="l" t="t" r="r" b="b"/>
            <a:pathLst>
              <a:path w="1707" h="612">
                <a:moveTo>
                  <a:pt x="0" y="3"/>
                </a:moveTo>
                <a:lnTo>
                  <a:pt x="144" y="3"/>
                </a:lnTo>
                <a:lnTo>
                  <a:pt x="141" y="465"/>
                </a:lnTo>
                <a:lnTo>
                  <a:pt x="1554" y="471"/>
                </a:lnTo>
                <a:lnTo>
                  <a:pt x="1557" y="0"/>
                </a:lnTo>
                <a:lnTo>
                  <a:pt x="1707" y="0"/>
                </a:lnTo>
                <a:lnTo>
                  <a:pt x="1701" y="612"/>
                </a:lnTo>
                <a:lnTo>
                  <a:pt x="0" y="609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C 1.66667E-006 0.01181 1.66667E-006 0.02362 1.66667E-006 0.03542 E">
                                      <p:cBhvr>
                                        <p:cTn id="56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381480" y="3029040"/>
            <a:ext cx="1081080" cy="1719000"/>
          </a:xfrm>
          <a:custGeom>
            <a:avLst/>
            <a:gdLst/>
            <a:ahLst/>
            <a:rect l="l" t="t" r="r" b="b"/>
            <a:pathLst>
              <a:path w="681" h="1083">
                <a:moveTo>
                  <a:pt x="0" y="111"/>
                </a:moveTo>
                <a:lnTo>
                  <a:pt x="288" y="0"/>
                </a:lnTo>
                <a:lnTo>
                  <a:pt x="681" y="966"/>
                </a:lnTo>
                <a:lnTo>
                  <a:pt x="390" y="1083"/>
                </a:lnTo>
                <a:lnTo>
                  <a:pt x="0" y="111"/>
                </a:lnTo>
                <a:close/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>
                  <a:alpha val="30196"/>
                </a:srgbClr>
              </a:gs>
              <a:gs pos="100000">
                <a:srgbClr val="3b3b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3520" y="4851360"/>
            <a:ext cx="117360" cy="43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59440" y="4724280"/>
            <a:ext cx="414360" cy="12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0" y="4103640"/>
            <a:ext cx="0" cy="74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0" y="2867040"/>
            <a:ext cx="222408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64080" y="4103640"/>
            <a:ext cx="0" cy="74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0" y="4844880"/>
            <a:ext cx="222408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92320" y="4103640"/>
            <a:ext cx="1800" cy="98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92320" y="5091120"/>
            <a:ext cx="271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711760" y="4103280"/>
            <a:ext cx="1800" cy="98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92320" y="2620800"/>
            <a:ext cx="2719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79560" y="5103720"/>
            <a:ext cx="6799320" cy="1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98760" y="1986120"/>
            <a:ext cx="0" cy="31050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30960" y="1984320"/>
            <a:ext cx="0" cy="3119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992320" y="4103640"/>
            <a:ext cx="247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0" y="2867040"/>
            <a:ext cx="0" cy="74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92320" y="3608280"/>
            <a:ext cx="24768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992320" y="2620440"/>
            <a:ext cx="1800" cy="98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64080" y="2867040"/>
            <a:ext cx="0" cy="741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1760" y="2620800"/>
            <a:ext cx="1800" cy="98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64080" y="3608280"/>
            <a:ext cx="24768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64080" y="4103640"/>
            <a:ext cx="24768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387600" y="3027600"/>
            <a:ext cx="458640" cy="18216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91560" y="3210840"/>
            <a:ext cx="619200" cy="154908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1560" y="3024720"/>
            <a:ext cx="627480" cy="155268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98760" y="3608280"/>
            <a:ext cx="1047600" cy="18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98760" y="4103640"/>
            <a:ext cx="1238040" cy="18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28320" y="1969920"/>
            <a:ext cx="9720" cy="31212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92760" y="1984320"/>
            <a:ext cx="9720" cy="3119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0680" y="3127320"/>
            <a:ext cx="1852920" cy="1976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11840" y="4562640"/>
            <a:ext cx="458280" cy="18360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30720" y="3535200"/>
            <a:ext cx="82872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954760" y="3751200"/>
            <a:ext cx="37764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54760" y="4027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4760" y="3905280"/>
            <a:ext cx="21420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81640" y="3726000"/>
            <a:ext cx="5724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27760" y="3868560"/>
            <a:ext cx="57240" cy="6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38720" y="4694400"/>
            <a:ext cx="5724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64480" y="2778120"/>
            <a:ext cx="1498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action fr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6640" y="1449360"/>
            <a:ext cx="5496120" cy="52380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613320" y="1963800"/>
            <a:ext cx="0" cy="11714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43800" y="1982880"/>
            <a:ext cx="9360" cy="3119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7040" y="1982880"/>
            <a:ext cx="0" cy="3119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03920" y="3182760"/>
            <a:ext cx="1790640" cy="19098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07160" y="3714840"/>
            <a:ext cx="1309680" cy="13856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10400" y="3660840"/>
            <a:ext cx="1343160" cy="14335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63840" y="1974960"/>
            <a:ext cx="0" cy="3105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088720" y="1982880"/>
            <a:ext cx="9720" cy="31305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36640" y="1494000"/>
            <a:ext cx="5472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39880" y="1935000"/>
            <a:ext cx="5486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6680" y="3645000"/>
            <a:ext cx="1052640" cy="1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6680" y="4059360"/>
            <a:ext cx="1209600" cy="1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3880" y="3190320"/>
            <a:ext cx="619200" cy="15490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11320" y="3032640"/>
            <a:ext cx="627480" cy="15526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100400" y="3281400"/>
            <a:ext cx="1109880" cy="847800"/>
            <a:chOff x="4100400" y="3281400"/>
            <a:chExt cx="1109880" cy="847800"/>
          </a:xfrm>
        </p:grpSpPr>
        <p:sp>
          <p:nvSpPr>
            <p:cNvPr id="227" name=""/>
            <p:cNvSpPr/>
            <p:nvPr/>
          </p:nvSpPr>
          <p:spPr>
            <a:xfrm>
              <a:off x="4100400" y="3281400"/>
              <a:ext cx="1109880" cy="847800"/>
            </a:xfrm>
            <a:custGeom>
              <a:avLst/>
              <a:gdLst/>
              <a:ahLst/>
              <a:rect l="l" t="t" r="r" b="b"/>
              <a:pathLst>
                <a:path w="699" h="534">
                  <a:moveTo>
                    <a:pt x="123" y="534"/>
                  </a:moveTo>
                  <a:lnTo>
                    <a:pt x="0" y="234"/>
                  </a:lnTo>
                  <a:lnTo>
                    <a:pt x="579" y="0"/>
                  </a:lnTo>
                  <a:lnTo>
                    <a:pt x="699" y="297"/>
                  </a:lnTo>
                  <a:lnTo>
                    <a:pt x="123" y="534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30196"/>
                  </a:srgbClr>
                </a:gs>
                <a:gs pos="100000">
                  <a:srgbClr val="3b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105440" y="3286080"/>
              <a:ext cx="1103040" cy="831240"/>
              <a:chOff x="4105440" y="3286080"/>
              <a:chExt cx="1103040" cy="83124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4105440" y="3286440"/>
                <a:ext cx="915840" cy="37368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20560" y="3286080"/>
                <a:ext cx="187200" cy="45684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4292640" y="3743640"/>
                <a:ext cx="915840" cy="37368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114880" y="3510000"/>
              <a:ext cx="554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114800" y="3309480"/>
              <a:ext cx="91908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81480" y="3719520"/>
              <a:ext cx="909720" cy="37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224240" y="3824280"/>
            <a:ext cx="216000" cy="165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21200" y="3678120"/>
            <a:ext cx="615960" cy="47628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021200" y="3678120"/>
            <a:ext cx="209520" cy="146160"/>
          </a:xfrm>
          <a:prstGeom prst="line">
            <a:avLst/>
          </a:prstGeom>
          <a:ln w="9360">
            <a:solidFill>
              <a:srgbClr val="99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440240" y="3678120"/>
            <a:ext cx="203040" cy="146160"/>
          </a:xfrm>
          <a:prstGeom prst="line">
            <a:avLst/>
          </a:prstGeom>
          <a:ln w="9360">
            <a:solidFill>
              <a:srgbClr val="99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083120" y="2627280"/>
            <a:ext cx="233280" cy="8859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501800" y="2631960"/>
            <a:ext cx="4680" cy="8431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801680" y="2049480"/>
            <a:ext cx="723960" cy="1951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246200" y="2446200"/>
            <a:ext cx="1266840" cy="1429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4880" y="205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71920" y="429264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amer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85040" y="21765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amer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013280" y="3981600"/>
            <a:ext cx="216000" cy="177480"/>
          </a:xfrm>
          <a:prstGeom prst="line">
            <a:avLst/>
          </a:prstGeom>
          <a:ln w="9360">
            <a:solidFill>
              <a:srgbClr val="99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44920" y="3987720"/>
            <a:ext cx="190440" cy="165240"/>
          </a:xfrm>
          <a:prstGeom prst="line">
            <a:avLst/>
          </a:prstGeom>
          <a:ln w="9360">
            <a:solidFill>
              <a:srgbClr val="99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191120" y="1973160"/>
            <a:ext cx="609480" cy="63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72040" y="2496960"/>
            <a:ext cx="2376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27480" y="2443320"/>
            <a:ext cx="23760" cy="9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9400" y="2376360"/>
            <a:ext cx="2376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314440"/>
            <a:ext cx="2376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13240" y="2247840"/>
            <a:ext cx="2376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65800" y="2185920"/>
            <a:ext cx="2376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22680" y="2138400"/>
            <a:ext cx="23760" cy="9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0560" y="2076480"/>
            <a:ext cx="2376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32480" y="2019240"/>
            <a:ext cx="2376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2239920"/>
            <a:ext cx="123840" cy="200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08840" y="3784680"/>
            <a:ext cx="88920" cy="88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4311720"/>
            <a:ext cx="88920" cy="88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84840" y="432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train gau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157440" y="3890520"/>
            <a:ext cx="647640" cy="47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6119640" y="4338360"/>
            <a:ext cx="657360" cy="199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65200" y="5491080"/>
            <a:ext cx="70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s measured by strain gauges fixed to two loading b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69880" y="5978520"/>
            <a:ext cx="70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ormations measured by cameras placed at the front and top of the furn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95560" y="2624040"/>
            <a:ext cx="2710080" cy="976320"/>
          </a:xfrm>
          <a:custGeom>
            <a:avLst/>
            <a:gdLst/>
            <a:ahLst/>
            <a:rect l="l" t="t" r="r" b="b"/>
            <a:pathLst>
              <a:path w="1707" h="615">
                <a:moveTo>
                  <a:pt x="150" y="606"/>
                </a:moveTo>
                <a:lnTo>
                  <a:pt x="0" y="609"/>
                </a:lnTo>
                <a:lnTo>
                  <a:pt x="0" y="0"/>
                </a:lnTo>
                <a:lnTo>
                  <a:pt x="1701" y="0"/>
                </a:lnTo>
                <a:lnTo>
                  <a:pt x="1707" y="615"/>
                </a:lnTo>
                <a:lnTo>
                  <a:pt x="1557" y="615"/>
                </a:lnTo>
                <a:lnTo>
                  <a:pt x="1560" y="150"/>
                </a:lnTo>
                <a:lnTo>
                  <a:pt x="150" y="150"/>
                </a:lnTo>
                <a:lnTo>
                  <a:pt x="150" y="6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00240" y="4110120"/>
            <a:ext cx="2710080" cy="971640"/>
          </a:xfrm>
          <a:custGeom>
            <a:avLst/>
            <a:gdLst/>
            <a:ahLst/>
            <a:rect l="l" t="t" r="r" b="b"/>
            <a:pathLst>
              <a:path w="1707" h="612">
                <a:moveTo>
                  <a:pt x="0" y="3"/>
                </a:moveTo>
                <a:lnTo>
                  <a:pt x="144" y="3"/>
                </a:lnTo>
                <a:lnTo>
                  <a:pt x="141" y="465"/>
                </a:lnTo>
                <a:lnTo>
                  <a:pt x="1554" y="471"/>
                </a:lnTo>
                <a:lnTo>
                  <a:pt x="1557" y="0"/>
                </a:lnTo>
                <a:lnTo>
                  <a:pt x="1707" y="0"/>
                </a:lnTo>
                <a:lnTo>
                  <a:pt x="1701" y="612"/>
                </a:lnTo>
                <a:lnTo>
                  <a:pt x="0" y="609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173480" y="2112480"/>
            <a:ext cx="432000" cy="39708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177800" y="2254320"/>
            <a:ext cx="1342080" cy="1173240"/>
            <a:chOff x="4177800" y="2254320"/>
            <a:chExt cx="1342080" cy="1173240"/>
          </a:xfrm>
        </p:grpSpPr>
        <p:sp>
          <p:nvSpPr>
            <p:cNvPr id="270" name=""/>
            <p:cNvSpPr/>
            <p:nvPr/>
          </p:nvSpPr>
          <p:spPr>
            <a:xfrm flipH="1" flipV="1">
              <a:off x="4443480" y="2257560"/>
              <a:ext cx="1076400" cy="69840"/>
            </a:xfrm>
            <a:prstGeom prst="line">
              <a:avLst/>
            </a:prstGeom>
            <a:ln w="9360">
              <a:solidFill>
                <a:srgbClr val="99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49600" y="2254320"/>
              <a:ext cx="120960" cy="11206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299120" y="2367000"/>
              <a:ext cx="1209600" cy="316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177800" y="2401920"/>
              <a:ext cx="127080" cy="1025640"/>
            </a:xfrm>
            <a:prstGeom prst="line">
              <a:avLst/>
            </a:prstGeom>
            <a:ln w="9360">
              <a:solidFill>
                <a:srgbClr val="99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of the tes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616120" y="942840"/>
            <a:ext cx="6010200" cy="2776680"/>
            <a:chOff x="2616120" y="942840"/>
            <a:chExt cx="6010200" cy="277668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4711680" y="942840"/>
              <a:ext cx="3914640" cy="277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77" name=""/>
            <p:cNvSpPr/>
            <p:nvPr/>
          </p:nvSpPr>
          <p:spPr>
            <a:xfrm>
              <a:off x="2616120" y="946080"/>
              <a:ext cx="196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Setup of the reaction frame and the furn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57320" y="2832120"/>
            <a:ext cx="4244760" cy="3782880"/>
            <a:chOff x="157320" y="2832120"/>
            <a:chExt cx="4244760" cy="3782880"/>
          </a:xfrm>
        </p:grpSpPr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157320" y="3557520"/>
              <a:ext cx="4244760" cy="305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80" name=""/>
            <p:cNvSpPr/>
            <p:nvPr/>
          </p:nvSpPr>
          <p:spPr>
            <a:xfrm>
              <a:off x="182520" y="2832120"/>
              <a:ext cx="196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Setup of the test specim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743360" y="4272120"/>
            <a:ext cx="2508480" cy="242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2" name=""/>
          <p:cNvSpPr/>
          <p:nvPr/>
        </p:nvSpPr>
        <p:spPr>
          <a:xfrm>
            <a:off x="5668920" y="2664000"/>
            <a:ext cx="2333520" cy="2539800"/>
          </a:xfrm>
          <a:custGeom>
            <a:avLst/>
            <a:gdLst/>
            <a:ahLst/>
            <a:rect l="l" t="t" r="r" b="b"/>
            <a:pathLst>
              <a:path w="1470" h="1600">
                <a:moveTo>
                  <a:pt x="0" y="0"/>
                </a:moveTo>
                <a:cubicBezTo>
                  <a:pt x="50" y="75"/>
                  <a:pt x="87" y="334"/>
                  <a:pt x="311" y="448"/>
                </a:cubicBezTo>
                <a:cubicBezTo>
                  <a:pt x="535" y="562"/>
                  <a:pt x="1218" y="493"/>
                  <a:pt x="1344" y="685"/>
                </a:cubicBezTo>
                <a:cubicBezTo>
                  <a:pt x="1470" y="877"/>
                  <a:pt x="1270" y="1238"/>
                  <a:pt x="1070" y="1600"/>
                </a:cubicBezTo>
              </a:path>
            </a:pathLst>
          </a:custGeom>
          <a:noFill/>
          <a:ln w="76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78560" y="5342040"/>
            <a:ext cx="14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View from camer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pecial loading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099800"/>
            <a:ext cx="8458200" cy="558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"/>
          <p:cNvSpPr/>
          <p:nvPr/>
        </p:nvSpPr>
        <p:spPr>
          <a:xfrm>
            <a:off x="2146320" y="5613480"/>
            <a:ext cx="293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should be allowed to rotate at least 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fra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88280" y="2405160"/>
            <a:ext cx="22730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of loading bar must stay within 300mm furnace h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86480" y="4789440"/>
            <a:ext cx="22813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and position of the 3 load bars are selected to satisfy these requi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73720" y="5865840"/>
            <a:ext cx="855720" cy="276120"/>
          </a:xfrm>
          <a:prstGeom prst="rightArrow">
            <a:avLst>
              <a:gd name="adj1" fmla="val 50000"/>
              <a:gd name="adj2" fmla="val 774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45240" y="3852720"/>
            <a:ext cx="260640" cy="696960"/>
          </a:xfrm>
          <a:prstGeom prst="downArrow">
            <a:avLst>
              <a:gd name="adj1" fmla="val 50000"/>
              <a:gd name="adj2" fmla="val 668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915840" y="1239840"/>
            <a:ext cx="5534280" cy="3976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906800" y="4400640"/>
            <a:ext cx="3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25920" y="4726080"/>
            <a:ext cx="137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crew Jack moving downw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7920" y="4400640"/>
            <a:ext cx="274320" cy="352440"/>
          </a:xfrm>
          <a:prstGeom prst="downArrow">
            <a:avLst>
              <a:gd name="adj1" fmla="val 50000"/>
              <a:gd name="adj2" fmla="val 32119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79760" y="2049480"/>
            <a:ext cx="0" cy="10461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62360" y="1305000"/>
            <a:ext cx="93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9900"/>
                </a:solidFill>
                <a:latin typeface="Arial"/>
                <a:ea typeface="Arial"/>
              </a:rPr>
              <a:t>Φ</a:t>
            </a:r>
            <a:r>
              <a:rPr b="0" lang="en-US" sz="1400" spc="-1" strike="noStrike">
                <a:solidFill>
                  <a:srgbClr val="009900"/>
                </a:solidFill>
                <a:latin typeface="Arial"/>
              </a:rPr>
              <a:t>300mm furnace h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84600" y="2766960"/>
            <a:ext cx="88560" cy="29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70840" y="287496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 of the maximum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62640" y="1200240"/>
            <a:ext cx="1928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End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 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lush End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Cleat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19120" y="2943360"/>
            <a:ext cx="5684760" cy="365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302" name=""/>
          <p:cNvGrpSpPr/>
          <p:nvPr/>
        </p:nvGrpSpPr>
        <p:grpSpPr>
          <a:xfrm>
            <a:off x="6421320" y="1914480"/>
            <a:ext cx="2722680" cy="4624560"/>
            <a:chOff x="6421320" y="1914480"/>
            <a:chExt cx="2722680" cy="4624560"/>
          </a:xfrm>
        </p:grpSpPr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6443640" y="3684600"/>
              <a:ext cx="2700360" cy="28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6421320" y="2109960"/>
              <a:ext cx="219420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 analysis used to estimate maximum joint resista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6560" y="1914480"/>
              <a:ext cx="2200320" cy="1928880"/>
            </a:xfrm>
            <a:custGeom>
              <a:avLst/>
              <a:gdLst/>
              <a:ahLst/>
              <a:rect l="l" t="t" r="r" b="b"/>
              <a:pathLst>
                <a:path w="1386" h="1215">
                  <a:moveTo>
                    <a:pt x="0" y="0"/>
                  </a:moveTo>
                  <a:lnTo>
                    <a:pt x="1386" y="0"/>
                  </a:lnTo>
                  <a:lnTo>
                    <a:pt x="1386" y="1215"/>
                  </a:lnTo>
                </a:path>
              </a:pathLst>
            </a:custGeom>
            <a:noFill/>
            <a:ln w="101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3080" y="1201680"/>
            <a:ext cx="3256200" cy="1191240"/>
            <a:chOff x="3043080" y="1201680"/>
            <a:chExt cx="3256200" cy="1191240"/>
          </a:xfrm>
        </p:grpSpPr>
        <p:sp>
          <p:nvSpPr>
            <p:cNvPr id="307" name=""/>
            <p:cNvSpPr/>
            <p:nvPr/>
          </p:nvSpPr>
          <p:spPr>
            <a:xfrm>
              <a:off x="4124160" y="1201680"/>
              <a:ext cx="2175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trongest -  determines the strength of the load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43080" y="1914480"/>
              <a:ext cx="871560" cy="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834240" y="4471920"/>
            <a:ext cx="620640" cy="993960"/>
            <a:chOff x="6834240" y="4471920"/>
            <a:chExt cx="620640" cy="993960"/>
          </a:xfrm>
        </p:grpSpPr>
        <p:grpSp>
          <p:nvGrpSpPr>
            <p:cNvPr id="310" name=""/>
            <p:cNvGrpSpPr/>
            <p:nvPr/>
          </p:nvGrpSpPr>
          <p:grpSpPr>
            <a:xfrm>
              <a:off x="6834240" y="4471920"/>
              <a:ext cx="620640" cy="993960"/>
              <a:chOff x="6834240" y="4471920"/>
              <a:chExt cx="620640" cy="993960"/>
            </a:xfrm>
          </p:grpSpPr>
          <p:sp>
            <p:nvSpPr>
              <p:cNvPr id="311" name=""/>
              <p:cNvSpPr/>
              <p:nvPr/>
            </p:nvSpPr>
            <p:spPr>
              <a:xfrm>
                <a:off x="6892920" y="4518000"/>
                <a:ext cx="501480" cy="947880"/>
              </a:xfrm>
              <a:custGeom>
                <a:avLst/>
                <a:gdLst/>
                <a:ahLst/>
                <a:rect l="l" t="t" r="r" b="b"/>
                <a:pathLst>
                  <a:path w="316" h="597">
                    <a:moveTo>
                      <a:pt x="0" y="200"/>
                    </a:moveTo>
                    <a:lnTo>
                      <a:pt x="316" y="0"/>
                    </a:lnTo>
                    <a:lnTo>
                      <a:pt x="316" y="398"/>
                    </a:lnTo>
                    <a:lnTo>
                      <a:pt x="0" y="597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42200" y="4471920"/>
                <a:ext cx="108000" cy="108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46880" y="4667400"/>
                <a:ext cx="108000" cy="107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834240" y="5186520"/>
                <a:ext cx="108000" cy="107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42200" y="4869000"/>
                <a:ext cx="108000" cy="107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38920" y="4984920"/>
                <a:ext cx="108000" cy="107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34240" y="4789440"/>
                <a:ext cx="108000" cy="108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891480" y="4711320"/>
              <a:ext cx="501480" cy="523440"/>
              <a:chOff x="6891480" y="4711320"/>
              <a:chExt cx="501480" cy="52344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6891480" y="4711320"/>
                <a:ext cx="501480" cy="314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891480" y="4920480"/>
                <a:ext cx="501480" cy="314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4371840" y="3979800"/>
            <a:ext cx="4029120" cy="642960"/>
          </a:xfrm>
          <a:custGeom>
            <a:avLst/>
            <a:gdLst/>
            <a:ahLst/>
            <a:rect l="l" t="t" r="r" b="b"/>
            <a:pathLst>
              <a:path w="2538" h="405">
                <a:moveTo>
                  <a:pt x="0" y="405"/>
                </a:moveTo>
                <a:lnTo>
                  <a:pt x="621" y="0"/>
                </a:lnTo>
                <a:lnTo>
                  <a:pt x="2538" y="0"/>
                </a:lnTo>
                <a:lnTo>
                  <a:pt x="1899" y="396"/>
                </a:lnTo>
                <a:lnTo>
                  <a:pt x="0" y="405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78320" y="1643040"/>
            <a:ext cx="4029120" cy="642960"/>
          </a:xfrm>
          <a:custGeom>
            <a:avLst/>
            <a:gdLst/>
            <a:ahLst/>
            <a:rect l="l" t="t" r="r" b="b"/>
            <a:pathLst>
              <a:path w="2538" h="405">
                <a:moveTo>
                  <a:pt x="0" y="405"/>
                </a:moveTo>
                <a:lnTo>
                  <a:pt x="621" y="0"/>
                </a:lnTo>
                <a:lnTo>
                  <a:pt x="2538" y="0"/>
                </a:lnTo>
                <a:lnTo>
                  <a:pt x="1899" y="396"/>
                </a:lnTo>
                <a:lnTo>
                  <a:pt x="0" y="405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99840" y="0"/>
            <a:ext cx="844380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tic of parametric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67200" y="5450040"/>
            <a:ext cx="30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5759280"/>
            <a:ext cx="538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SimSu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097600" y="5769000"/>
            <a:ext cx="663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SimSun"/>
              </a:rPr>
              <a:t>5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48440" y="5759280"/>
            <a:ext cx="68112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SimSun"/>
              </a:rPr>
              <a:t>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77160" y="5754600"/>
            <a:ext cx="609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SimSun"/>
              </a:rPr>
              <a:t>7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45520" y="5632560"/>
            <a:ext cx="5428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59880" y="5345280"/>
            <a:ext cx="539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8120" y="4991040"/>
            <a:ext cx="552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09760" y="4062240"/>
            <a:ext cx="12211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Flexible endpl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06880" y="3173400"/>
            <a:ext cx="119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SimSun"/>
              </a:rPr>
              <a:t>Fin pl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25960" y="1736640"/>
            <a:ext cx="1117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SimSun"/>
              </a:rPr>
              <a:t>Web clea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75160" y="5133960"/>
            <a:ext cx="1016280" cy="6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392880" y="5133960"/>
            <a:ext cx="1015920" cy="6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67200" y="4289400"/>
            <a:ext cx="30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375160" y="3971880"/>
            <a:ext cx="1016280" cy="6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392880" y="3971880"/>
            <a:ext cx="1015920" cy="6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57840" y="3127320"/>
            <a:ext cx="3049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375160" y="2809800"/>
            <a:ext cx="1016280" cy="6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392880" y="2809800"/>
            <a:ext cx="1015920" cy="6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375160" y="1647720"/>
            <a:ext cx="1016280" cy="6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392880" y="1647720"/>
            <a:ext cx="1015920" cy="63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75280" y="6062760"/>
            <a:ext cx="18763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SimSun"/>
              </a:rPr>
              <a:t>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3320" y="1370160"/>
            <a:ext cx="2981160" cy="360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Aft>
                <a:spcPts val="1250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e is one connection geometry - tested for whole temperature range, various loa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spcAft>
                <a:spcPts val="75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extension represents 1 to 3 special connection geometries - tested to observe different failure combin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88280" y="2273400"/>
            <a:ext cx="0" cy="351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396280" y="1643040"/>
            <a:ext cx="0" cy="351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65800" y="1650960"/>
            <a:ext cx="0" cy="3484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9574400">
            <a:off x="7289640" y="5769000"/>
            <a:ext cx="18115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SimSun"/>
              </a:rPr>
              <a:t>Tension/shear force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46680" y="1963800"/>
            <a:ext cx="304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79760" y="2808360"/>
            <a:ext cx="4029120" cy="642960"/>
          </a:xfrm>
          <a:custGeom>
            <a:avLst/>
            <a:gdLst/>
            <a:ahLst/>
            <a:rect l="l" t="t" r="r" b="b"/>
            <a:pathLst>
              <a:path w="2538" h="405">
                <a:moveTo>
                  <a:pt x="0" y="405"/>
                </a:moveTo>
                <a:lnTo>
                  <a:pt x="621" y="0"/>
                </a:lnTo>
                <a:lnTo>
                  <a:pt x="2538" y="0"/>
                </a:lnTo>
                <a:lnTo>
                  <a:pt x="1899" y="396"/>
                </a:lnTo>
                <a:lnTo>
                  <a:pt x="0" y="405"/>
                </a:lnTo>
                <a:close/>
              </a:path>
            </a:pathLst>
          </a:custGeom>
          <a:solidFill>
            <a:srgbClr val="660066">
              <a:alpha val="50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91560" y="1963800"/>
            <a:ext cx="0" cy="351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89520" y="1940040"/>
            <a:ext cx="0" cy="351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86160" y="2193840"/>
            <a:ext cx="179640" cy="1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07120" y="2182680"/>
            <a:ext cx="179280" cy="1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1600" y="2174760"/>
            <a:ext cx="179280" cy="1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83520" y="2185920"/>
            <a:ext cx="179280" cy="17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67120" y="1865160"/>
            <a:ext cx="179640" cy="1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88080" y="1854360"/>
            <a:ext cx="179280" cy="17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02560" y="1846440"/>
            <a:ext cx="179280" cy="17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764480" y="1857240"/>
            <a:ext cx="179280" cy="1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75440" y="1547640"/>
            <a:ext cx="179280" cy="1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96040" y="1536840"/>
            <a:ext cx="179280" cy="17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10520" y="1528920"/>
            <a:ext cx="179280" cy="17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272440" y="1539720"/>
            <a:ext cx="179280" cy="1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75000" y="3357720"/>
            <a:ext cx="17964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95960" y="3346560"/>
            <a:ext cx="17928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10440" y="3338640"/>
            <a:ext cx="17928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72360" y="3349800"/>
            <a:ext cx="17928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56320" y="3029040"/>
            <a:ext cx="17928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76920" y="3017880"/>
            <a:ext cx="17928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1400" y="3009960"/>
            <a:ext cx="17928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753320" y="3021120"/>
            <a:ext cx="17928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264280" y="2711520"/>
            <a:ext cx="17928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84880" y="2700360"/>
            <a:ext cx="17928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299360" y="2692440"/>
            <a:ext cx="17928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261280" y="2703600"/>
            <a:ext cx="179280" cy="179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75000" y="4532400"/>
            <a:ext cx="17964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95960" y="4521240"/>
            <a:ext cx="17928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10440" y="4513320"/>
            <a:ext cx="17928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756320" y="4203720"/>
            <a:ext cx="17928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76920" y="4192560"/>
            <a:ext cx="17928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753320" y="4195800"/>
            <a:ext cx="17928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64280" y="3886200"/>
            <a:ext cx="17928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84880" y="3875040"/>
            <a:ext cx="17928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1280" y="3878280"/>
            <a:ext cx="17928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92760" y="5367240"/>
            <a:ext cx="179280" cy="179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07240" y="5359320"/>
            <a:ext cx="179280" cy="179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840360" y="1366920"/>
            <a:ext cx="615960" cy="598320"/>
            <a:chOff x="6840360" y="1366920"/>
            <a:chExt cx="615960" cy="598320"/>
          </a:xfrm>
        </p:grpSpPr>
        <p:sp>
          <p:nvSpPr>
            <p:cNvPr id="391" name=""/>
            <p:cNvSpPr/>
            <p:nvPr/>
          </p:nvSpPr>
          <p:spPr>
            <a:xfrm>
              <a:off x="6891480" y="1441440"/>
              <a:ext cx="517320" cy="523800"/>
            </a:xfrm>
            <a:custGeom>
              <a:avLst/>
              <a:gdLst/>
              <a:ahLst/>
              <a:rect l="l" t="t" r="r" b="b"/>
              <a:pathLst>
                <a:path w="326" h="330">
                  <a:moveTo>
                    <a:pt x="322" y="0"/>
                  </a:moveTo>
                  <a:lnTo>
                    <a:pt x="326" y="128"/>
                  </a:lnTo>
                  <a:lnTo>
                    <a:pt x="4" y="330"/>
                  </a:lnTo>
                  <a:lnTo>
                    <a:pt x="0" y="198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40360" y="1684440"/>
              <a:ext cx="108000" cy="108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48680" y="1366920"/>
              <a:ext cx="107640" cy="108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829560" y="2360520"/>
            <a:ext cx="620640" cy="768600"/>
            <a:chOff x="6829560" y="2360520"/>
            <a:chExt cx="620640" cy="768600"/>
          </a:xfrm>
        </p:grpSpPr>
        <p:grpSp>
          <p:nvGrpSpPr>
            <p:cNvPr id="395" name=""/>
            <p:cNvGrpSpPr/>
            <p:nvPr/>
          </p:nvGrpSpPr>
          <p:grpSpPr>
            <a:xfrm>
              <a:off x="6894360" y="2409840"/>
              <a:ext cx="501840" cy="719280"/>
              <a:chOff x="6894360" y="2409840"/>
              <a:chExt cx="501840" cy="719280"/>
            </a:xfrm>
          </p:grpSpPr>
          <p:sp>
            <p:nvSpPr>
              <p:cNvPr id="396" name=""/>
              <p:cNvSpPr/>
              <p:nvPr/>
            </p:nvSpPr>
            <p:spPr>
              <a:xfrm>
                <a:off x="6896160" y="2409840"/>
                <a:ext cx="498600" cy="719280"/>
              </a:xfrm>
              <a:custGeom>
                <a:avLst/>
                <a:gdLst/>
                <a:ahLst/>
                <a:rect l="l" t="t" r="r" b="b"/>
                <a:pathLst>
                  <a:path w="314" h="453">
                    <a:moveTo>
                      <a:pt x="314" y="0"/>
                    </a:moveTo>
                    <a:lnTo>
                      <a:pt x="314" y="257"/>
                    </a:lnTo>
                    <a:lnTo>
                      <a:pt x="0" y="453"/>
                    </a:lnTo>
                    <a:lnTo>
                      <a:pt x="0" y="195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800000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6894360" y="2612880"/>
                <a:ext cx="501840" cy="314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29560" y="2879640"/>
              <a:ext cx="107640" cy="108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37520" y="2562120"/>
              <a:ext cx="108000" cy="108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34240" y="2678040"/>
              <a:ext cx="108000" cy="108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42200" y="2360520"/>
              <a:ext cx="108000" cy="10800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834240" y="3524400"/>
            <a:ext cx="620640" cy="766440"/>
            <a:chOff x="6834240" y="3524400"/>
            <a:chExt cx="620640" cy="766440"/>
          </a:xfrm>
        </p:grpSpPr>
        <p:grpSp>
          <p:nvGrpSpPr>
            <p:cNvPr id="403" name=""/>
            <p:cNvGrpSpPr/>
            <p:nvPr/>
          </p:nvGrpSpPr>
          <p:grpSpPr>
            <a:xfrm>
              <a:off x="6894360" y="3571920"/>
              <a:ext cx="501840" cy="718920"/>
              <a:chOff x="6894360" y="3571920"/>
              <a:chExt cx="501840" cy="718920"/>
            </a:xfrm>
          </p:grpSpPr>
          <p:sp>
            <p:nvSpPr>
              <p:cNvPr id="404" name=""/>
              <p:cNvSpPr/>
              <p:nvPr/>
            </p:nvSpPr>
            <p:spPr>
              <a:xfrm>
                <a:off x="6896160" y="3571920"/>
                <a:ext cx="498600" cy="718920"/>
              </a:xfrm>
              <a:custGeom>
                <a:avLst/>
                <a:gdLst/>
                <a:ahLst/>
                <a:rect l="l" t="t" r="r" b="b"/>
                <a:pathLst>
                  <a:path w="314" h="453">
                    <a:moveTo>
                      <a:pt x="314" y="0"/>
                    </a:moveTo>
                    <a:lnTo>
                      <a:pt x="314" y="257"/>
                    </a:lnTo>
                    <a:lnTo>
                      <a:pt x="0" y="453"/>
                    </a:lnTo>
                    <a:lnTo>
                      <a:pt x="0" y="195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894360" y="3774960"/>
                <a:ext cx="501840" cy="313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834240" y="4043520"/>
              <a:ext cx="108000" cy="10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42200" y="3726000"/>
              <a:ext cx="108000" cy="10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38920" y="3841920"/>
              <a:ext cx="108000" cy="10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46880" y="3524400"/>
              <a:ext cx="108000" cy="10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791400" y="4184640"/>
            <a:ext cx="17928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99360" y="3867120"/>
            <a:ext cx="17928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72360" y="4524480"/>
            <a:ext cx="179280" cy="1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78320" y="2297160"/>
            <a:ext cx="0" cy="3484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3640" y="5205240"/>
            <a:ext cx="131112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SimSun"/>
              </a:rPr>
              <a:t>Flush endpl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71840" y="5151600"/>
            <a:ext cx="4029120" cy="642600"/>
          </a:xfrm>
          <a:custGeom>
            <a:avLst/>
            <a:gdLst/>
            <a:ahLst/>
            <a:rect l="l" t="t" r="r" b="b"/>
            <a:pathLst>
              <a:path w="2538" h="405">
                <a:moveTo>
                  <a:pt x="0" y="405"/>
                </a:moveTo>
                <a:lnTo>
                  <a:pt x="621" y="0"/>
                </a:lnTo>
                <a:lnTo>
                  <a:pt x="2538" y="0"/>
                </a:lnTo>
                <a:lnTo>
                  <a:pt x="1899" y="396"/>
                </a:lnTo>
                <a:lnTo>
                  <a:pt x="0" y="405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72160" y="5378400"/>
            <a:ext cx="179280" cy="17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90840" y="5707080"/>
            <a:ext cx="179640" cy="17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11800" y="5695920"/>
            <a:ext cx="179280" cy="17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26280" y="5688000"/>
            <a:ext cx="179280" cy="17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88200" y="5699160"/>
            <a:ext cx="179280" cy="17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280120" y="5060880"/>
            <a:ext cx="179280" cy="17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00720" y="5049720"/>
            <a:ext cx="179280" cy="179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69160" y="5370480"/>
            <a:ext cx="179280" cy="17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5041800"/>
            <a:ext cx="179280" cy="179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277120" y="5052960"/>
            <a:ext cx="179640" cy="17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117760" y="0"/>
            <a:ext cx="402588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bolt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97000" y="3003480"/>
            <a:ext cx="6772320" cy="28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spcAft>
                <a:spcPts val="788"/>
              </a:spcAft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bolts (grade 8.8) specified to BS 419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spcAft>
                <a:spcPts val="788"/>
              </a:spcAft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bolts (grade 8.8) specified to BS EN ISO 4014, nuts ordered to BS EN ISO 40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ypes of combin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85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bolts with grade 10 nuts (GA), 7H/8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85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bolts with grade 10 nuts (GB),  6H/6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85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bolts with grade 8 nuts (GC),   7H/8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85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bolts with grade 8 nuts (GD),    6H6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47800" y="1496880"/>
            <a:ext cx="76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ious tests showed evidence of occasional thread stri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153040" y="0"/>
            <a:ext cx="3990960" cy="528480"/>
          </a:xfrm>
          <a:prstGeom prst="rect">
            <a:avLst/>
          </a:prstGeom>
          <a:noFill/>
          <a:ln w="0">
            <a:noFill/>
          </a:ln>
        </p:spPr>
        <p:txBody>
          <a:bodyPr lIns="18000" rIns="36000" tIns="90000" bIns="10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Failure modes of b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81080" y="719280"/>
            <a:ext cx="5305320" cy="3916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431" name=""/>
          <p:cNvGraphicFramePr/>
          <p:nvPr/>
        </p:nvGraphicFramePr>
        <p:xfrm>
          <a:off x="3567240" y="2251080"/>
          <a:ext cx="5391000" cy="448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7240" y="2251080"/>
                    <a:ext cx="5391000" cy="4483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181080" y="4921200"/>
            <a:ext cx="3341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GB:  black bolts with grade 10 nuts, 6H/6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Tensile failure in the thread part of b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1:28:21Z</dcterms:created>
  <dc:creator>Hongxia</dc:creator>
  <dc:description/>
  <dc:language>en-US</dc:language>
  <cp:lastModifiedBy>František Wald</cp:lastModifiedBy>
  <dcterms:modified xsi:type="dcterms:W3CDTF">2006-11-18T19:14:01Z</dcterms:modified>
  <cp:revision>33</cp:revision>
  <dc:subject/>
  <dc:title>Slide 1</dc:title>
</cp:coreProperties>
</file>