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05A-13A3-4307-AC39-07B12FC2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21896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87216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2DF6-E0A0-483E-BF43-351A8A94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218960"/>
            <a:ext cx="39042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218960"/>
            <a:ext cx="39042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872160"/>
            <a:ext cx="39042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872160"/>
            <a:ext cx="39042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D77-38EE-4661-9D98-0AF22B41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218960"/>
            <a:ext cx="257616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218960"/>
            <a:ext cx="257616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218960"/>
            <a:ext cx="257616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872160"/>
            <a:ext cx="257616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872160"/>
            <a:ext cx="257616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872160"/>
            <a:ext cx="257616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934-1D7C-484A-81CE-6468177A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4D3F-B92A-4D56-BD22-34AF8C92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218960"/>
            <a:ext cx="800100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8E09-2A03-4424-B2CA-00A405B0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218960"/>
            <a:ext cx="80010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1DE8-F3CA-4853-AB0A-04EDB1D0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218960"/>
            <a:ext cx="39042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218960"/>
            <a:ext cx="39042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108E-9C57-47CF-BE35-1C4AE60F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0EA3-2124-4FD5-983C-6BE653DE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76320"/>
            <a:ext cx="80010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F5AD-DBCF-4609-B966-9FE57260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218960"/>
            <a:ext cx="39042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218960"/>
            <a:ext cx="39042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872160"/>
            <a:ext cx="39042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10E7-6FE0-4B85-86C9-D991E300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218960"/>
            <a:ext cx="800100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1F63-7139-42CB-AE36-92A9CEDC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218960"/>
            <a:ext cx="39042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218960"/>
            <a:ext cx="39042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872160"/>
            <a:ext cx="39042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8786-0E39-4DBF-BB76-A5C3E0F5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218960"/>
            <a:ext cx="39042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218960"/>
            <a:ext cx="39042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87216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5D0E-4FFA-4F75-829B-4CF5898D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21896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87216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6DBC-1145-4229-9B57-A685F694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218960"/>
            <a:ext cx="39042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218960"/>
            <a:ext cx="39042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872160"/>
            <a:ext cx="39042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872160"/>
            <a:ext cx="39042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BB87-A38B-481B-8FED-BDB5748D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218960"/>
            <a:ext cx="257616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218960"/>
            <a:ext cx="257616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218960"/>
            <a:ext cx="257616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872160"/>
            <a:ext cx="257616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872160"/>
            <a:ext cx="257616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872160"/>
            <a:ext cx="257616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F39F-AD72-439C-A862-3FF5A206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18960"/>
            <a:ext cx="80010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86A-58AF-4B74-9E62-1DCAE105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218960"/>
            <a:ext cx="39042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218960"/>
            <a:ext cx="39042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E1CE-0DE0-4024-B97C-1C2DF7EF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7287-1D0F-4464-834B-562F04EA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76320"/>
            <a:ext cx="80010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B17F-85D0-4928-B80D-FCE97A76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218960"/>
            <a:ext cx="39042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218960"/>
            <a:ext cx="39042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872160"/>
            <a:ext cx="39042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595D-8D3C-445A-8AA7-A57945E9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218960"/>
            <a:ext cx="39042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218960"/>
            <a:ext cx="39042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872160"/>
            <a:ext cx="39042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EC71-F77E-4118-953B-BBAB9989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218960"/>
            <a:ext cx="39042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218960"/>
            <a:ext cx="39042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872160"/>
            <a:ext cx="80010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AD7-3BDE-4C68-BD78-7503F6EA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18960"/>
            <a:ext cx="80010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79560"/>
            <a:ext cx="7958160" cy="7452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5004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423120"/>
            <a:ext cx="19814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3120"/>
            <a:ext cx="28958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423120"/>
            <a:ext cx="19814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E260-BB5C-444B-994C-1F11F1E934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31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CF82-E25B-4A46-9E65-A6E34B42C5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3528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-3377" t="0" r="0" b="0"/>
          <a:stretch/>
        </p:blipFill>
        <p:spPr>
          <a:xfrm>
            <a:off x="611280" y="333360"/>
            <a:ext cx="4392360" cy="1090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122640" y="5392800"/>
            <a:ext cx="906480" cy="90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4360" y="1484280"/>
            <a:ext cx="75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ST C26: Urban Habitat Constructions under Catastrophic Even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G1: Fire desig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Delft, Netherlands, 17-18 November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14960" y="5726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n Pintea, Raul Zah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Politehnica University, Timiso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1080" y="465120"/>
            <a:ext cx="76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oc. Prof. Raul Zaharia, PhD – The “Politehnica” University Timiso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5480" y="1406520"/>
            <a:ext cx="8148960" cy="52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duated in 1993 at the Faculty of Civil Engineering, PU Timiso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D since 2000 in the field of steel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0-2001: one year post-doctoral grant awarded by the Services of the Prime Minister of Belgium for Scientific, Technical and Cultural Affairs at the University of Liege (supervisor Prof. Jean Marc Franssen): “Behaviour of high-rise steel rack structures in fir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e than 70 publications from which 12 in the field of fire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fter of the romanian versions of EN1993-1-2 and 1994-1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 fire design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pplications for existing buildings in Romania (advanced analysis according to Eurocodes with SAFIR progr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rcRect l="38019" t="14587" r="30880" b="5891"/>
          <a:stretch/>
        </p:blipFill>
        <p:spPr>
          <a:xfrm>
            <a:off x="0" y="304920"/>
            <a:ext cx="3065400" cy="6324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rcRect l="5766" t="3830" r="35497" b="3830"/>
          <a:stretch/>
        </p:blipFill>
        <p:spPr>
          <a:xfrm>
            <a:off x="6415200" y="1069920"/>
            <a:ext cx="2192400" cy="2432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199320" y="198360"/>
            <a:ext cx="537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re design of composite steel-concrete colum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 Bucharest Tower Centre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rcRect l="16640" t="12811" r="58355" b="48757"/>
          <a:stretch/>
        </p:blipFill>
        <p:spPr>
          <a:xfrm>
            <a:off x="3657600" y="1104840"/>
            <a:ext cx="2405160" cy="2405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rcRect l="22782" t="16276" r="25103" b="26788"/>
          <a:stretch/>
        </p:blipFill>
        <p:spPr>
          <a:xfrm>
            <a:off x="5257800" y="3581280"/>
            <a:ext cx="3114720" cy="1746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rcRect l="3065" t="36015" r="32974" b="36782"/>
          <a:stretch/>
        </p:blipFill>
        <p:spPr>
          <a:xfrm>
            <a:off x="4254480" y="5391000"/>
            <a:ext cx="4889520" cy="1467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32280" y="3946680"/>
            <a:ext cx="2079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Height 106.3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 bas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 ground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6 flo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n.Lect. Dan Pintea, PhD – The “Politehnica” University Timiso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218960"/>
            <a:ext cx="80010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- Graduated in 1988 at the Faculty of Civil Engineering, “Politehnica” University Timisoar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- PhD since 2000 in the field of fire design of steel structural eleme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-2000-2001:researcher at the University of Liege in the project “Natural Fire Safety Concept”, NFSC 2 – OZone 2.1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003-2006: researcher at the University of Liege in project “Integrating Advanced 3D modeling technology for predicting thermo-mechanical behavior of steel and composites subjected to natural fires”, FIRESTRUC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- more than 40 publications from which 12 in the field of fire desig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- drafter of the romanian versions of EN1993-1-2 and 1994-1-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- software developer for Diamond for SAFIR and OZone 2.1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76320"/>
            <a:ext cx="8001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15160" cy="5095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260960" y="2940120"/>
            <a:ext cx="4883040" cy="3917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207040" y="990360"/>
            <a:ext cx="393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amond for SAFI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952560" y="6006960"/>
            <a:ext cx="3936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Zone V2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61600" y="419040"/>
            <a:ext cx="8001000" cy="4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ibution to the WG goa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601560" y="4903920"/>
            <a:ext cx="8001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uctural integrity and robustness of structures during fir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Prediction of structural behaviour in real time using advanced natural fire model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Global structural fire analysis using advanced models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Fire following earthquak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600" y="419040"/>
            <a:ext cx="8001000" cy="4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ibution to Praha Workshop of March 30-31, 200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601560" y="3316320"/>
            <a:ext cx="8001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723960" indent="-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Performance – based design in fire situ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Advanced global analysis models in fire design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07:17:59Z</dcterms:created>
  <dc:creator>F. Dinu</dc:creator>
  <dc:description/>
  <dc:language>en-US</dc:language>
  <cp:lastModifiedBy>František Wald</cp:lastModifiedBy>
  <cp:lastPrinted>2003-05-22T17:14:29Z</cp:lastPrinted>
  <dcterms:modified xsi:type="dcterms:W3CDTF">2006-11-18T19:15:58Z</dcterms:modified>
  <cp:revision>304</cp:revision>
  <dc:subject/>
  <dc:title>PROBLEME SPECIFICE PROIECTĂRII UNEI CLĂDIRI ÎNALTE CU STRUCTURA METALICA IN CONFORMITATE CU PREVEDERILE P100/2004 SI COMPARAŢIE CU P100/1992</dc:title>
</cp:coreProperties>
</file>