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430A7-B329-4C98-9BE2-895725DB23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342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342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2120" y="1461240"/>
            <a:ext cx="77342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D4D5A-D287-4B77-BD72-3389827D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342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37742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360" y="1142640"/>
            <a:ext cx="37742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1461240"/>
            <a:ext cx="37742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360" y="1461240"/>
            <a:ext cx="37742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CB1D5-6EDC-48A6-A6D6-9264995F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342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24901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7160" y="1142640"/>
            <a:ext cx="24901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2200" y="1142640"/>
            <a:ext cx="24901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2120" y="1461240"/>
            <a:ext cx="24901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7160" y="1461240"/>
            <a:ext cx="24901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2200" y="1461240"/>
            <a:ext cx="24901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EEED4-D4B3-401B-B050-6A6F9F7AD5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83C8DB-2F41-4486-85D7-4BEAB71673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342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142640"/>
            <a:ext cx="77342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87CE8-2849-4490-8CA8-2DEC3DB1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342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342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A1F1D8-8589-4839-9CFF-8AC7CCB0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342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37742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25360" y="1142640"/>
            <a:ext cx="37742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EAE054-AF0D-4E43-8EE1-79292E18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342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CA2765-03D0-47C4-8201-DD6FC5055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342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07C6D2-3490-40ED-AB54-0874B78F0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342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37742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25360" y="1142640"/>
            <a:ext cx="37742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1461240"/>
            <a:ext cx="37742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D4D82-578E-4112-B5E3-5EECAB0E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342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2120" y="1142640"/>
            <a:ext cx="77342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44327-EA43-4459-998B-DEA7D189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342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37742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25360" y="1142640"/>
            <a:ext cx="37742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25360" y="1461240"/>
            <a:ext cx="37742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AE8421-388E-42D5-B1D2-E210ADA2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342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37742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25360" y="1142640"/>
            <a:ext cx="37742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1461240"/>
            <a:ext cx="77342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6EE4A-DB3C-4AEA-87A2-C39EC1E6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342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342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1461240"/>
            <a:ext cx="77342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EE7D79-81B4-4FF6-94D5-67AE7784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342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37742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5360" y="1142640"/>
            <a:ext cx="37742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1461240"/>
            <a:ext cx="37742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25360" y="1461240"/>
            <a:ext cx="37742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35BF9E-021B-4A78-AA6D-BDF26E44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342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24901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7160" y="1142640"/>
            <a:ext cx="24901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92200" y="1142640"/>
            <a:ext cx="24901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1461240"/>
            <a:ext cx="24901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7160" y="1461240"/>
            <a:ext cx="24901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92200" y="1461240"/>
            <a:ext cx="24901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6ACBE-60B6-4B47-A035-29A83B02AA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342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342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0F9DE-E8E0-4D43-A8C2-772B8C4F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342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37742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360" y="1142640"/>
            <a:ext cx="37742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5ADF6-A2A4-450E-AC8D-14703AAA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342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2B310-E891-4BD7-939A-88669BD68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342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208AF-51F6-4A88-B362-9679BF06D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342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37742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360" y="1142640"/>
            <a:ext cx="37742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2120" y="1461240"/>
            <a:ext cx="37742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1F389-38AB-4041-9EBB-284AD4BC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342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37742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360" y="1142640"/>
            <a:ext cx="37742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360" y="1461240"/>
            <a:ext cx="37742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DE298-EBD4-439B-8336-8FBC61B2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342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37742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360" y="1142640"/>
            <a:ext cx="37742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1461240"/>
            <a:ext cx="77342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92B29-D4BF-4AC6-B964-9F3BE8A2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102360"/>
            <a:ext cx="9144000" cy="75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rcRect l="0" t="1677" r="0" b="23404"/>
          <a:stretch/>
        </p:blipFill>
        <p:spPr>
          <a:xfrm>
            <a:off x="6705720" y="6178680"/>
            <a:ext cx="1936800" cy="6793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5815080"/>
            <a:ext cx="9144000" cy="287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212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62120" y="1828440"/>
            <a:ext cx="7772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47720" y="583740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D073-5671-4F08-BBE7-183F548E7DF2}" type="datetime3">
              <a:rPr b="0" lang="en-US" sz="1000" spc="-1" strike="noStrike">
                <a:solidFill>
                  <a:srgbClr val="808080"/>
                </a:solidFill>
                <a:latin typeface="Tahoma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476760" y="583704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34F6-2AF0-4022-8209-B55297992B15}" type="slidenum">
              <a:rPr b="0" lang="en-US" sz="10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dt" idx="3"/>
          </p:nvPr>
        </p:nvSpPr>
        <p:spPr>
          <a:xfrm>
            <a:off x="752400" y="5194440"/>
            <a:ext cx="79250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8ED4-D72B-4884-86A8-782E8FC12837}" type="datetime3">
              <a:rPr b="1" lang="en-US" sz="1200" spc="-1" strike="noStrike">
                <a:solidFill>
                  <a:srgbClr val="ffffff"/>
                </a:solidFill>
                <a:latin typeface="Tahoma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58006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342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6353280"/>
            <a:ext cx="4686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-2573" r="0" b="0"/>
          <a:stretch/>
        </p:blipFill>
        <p:spPr>
          <a:xfrm>
            <a:off x="6597720" y="5867280"/>
            <a:ext cx="2065320" cy="986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5599080"/>
            <a:ext cx="9144000" cy="287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6476760" y="562104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A867-306D-4775-BC7D-A310CE6E94F9}" type="slidenum">
              <a:rPr b="0" lang="en-US" sz="10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ctr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342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Tahoma"/>
              </a:rPr>
              <a:t>Roland Abspoel MSc BSc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4360" y="1125360"/>
            <a:ext cx="7734240" cy="37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ahoma"/>
              </a:rPr>
              <a:t>Delft University of Technolog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ahoma"/>
              </a:rPr>
              <a:t>Faculty of Civil Engineering and Geoscienc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ahoma"/>
              </a:rPr>
              <a:t>Department of Structural Engineer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Steel Structure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uilding Structure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PhD study Plate Girder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5013360"/>
            <a:ext cx="765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Delft University of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9D62F9-45B3-4C67-9616-478ED06C65A7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5FBB76-7FAC-4E67-8CF8-D0C670C2E71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342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Tahoma"/>
              </a:rPr>
              <a:t>Roland Abspoel MSc BSc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55640" y="1341360"/>
            <a:ext cx="7734240" cy="30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ahoma"/>
              </a:rPr>
              <a:t>Plate Girde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ahoma"/>
              </a:rPr>
              <a:t>Maximum web slendernes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Tahoma"/>
              </a:rPr>
              <a:t>EC3 for S235 maximum web slendernes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Tahoma"/>
              </a:rPr>
              <a:t>700 to 800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Tahoma"/>
              </a:rPr>
              <a:t>Based on test from 1960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Tahoma"/>
              </a:rPr>
              <a:t>By Konrad Basl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5013360"/>
            <a:ext cx="765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Delft University of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788000" y="3645000"/>
          <a:ext cx="2592360" cy="105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3645000"/>
                    <a:ext cx="2592360" cy="10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82DCCD-3682-492E-9CB5-22F131E641A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D7FC44-FDAC-454B-A224-E95E41A91CB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342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Tahoma"/>
              </a:rPr>
              <a:t>Roland Abspoel MSc BSc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55640" y="1341000"/>
            <a:ext cx="77342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ahoma"/>
              </a:rPr>
              <a:t>Plate Girder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5013360"/>
            <a:ext cx="765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Delft University of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116000" y="1557360"/>
            <a:ext cx="7235640" cy="2844360"/>
            <a:chOff x="1116000" y="1557360"/>
            <a:chExt cx="7235640" cy="2844360"/>
          </a:xfrm>
        </p:grpSpPr>
        <p:grpSp>
          <p:nvGrpSpPr>
            <p:cNvPr id="100" name=""/>
            <p:cNvGrpSpPr/>
            <p:nvPr/>
          </p:nvGrpSpPr>
          <p:grpSpPr>
            <a:xfrm>
              <a:off x="1638720" y="2517480"/>
              <a:ext cx="6194520" cy="568800"/>
              <a:chOff x="1638720" y="2517480"/>
              <a:chExt cx="6194520" cy="5688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1638720" y="2517480"/>
                <a:ext cx="2274840" cy="568800"/>
                <a:chOff x="1638720" y="2517480"/>
                <a:chExt cx="2274840" cy="56880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1705680" y="2517480"/>
                  <a:ext cx="850680" cy="568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556360" y="2517480"/>
                  <a:ext cx="850680" cy="568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1638720" y="2517480"/>
                  <a:ext cx="66960" cy="568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408120" y="2517480"/>
                  <a:ext cx="371880" cy="568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779280" y="2517480"/>
                  <a:ext cx="134280" cy="568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" name=""/>
              <p:cNvSpPr/>
              <p:nvPr/>
            </p:nvSpPr>
            <p:spPr>
              <a:xfrm>
                <a:off x="3913560" y="2517480"/>
                <a:ext cx="402840" cy="5688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720320" y="2517480"/>
                <a:ext cx="850680" cy="5688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17480" y="2517480"/>
                <a:ext cx="402840" cy="5688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0800000">
                <a:off x="6914520" y="2517480"/>
                <a:ext cx="850680" cy="56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0800000">
                <a:off x="6063480" y="2517480"/>
                <a:ext cx="850680" cy="56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0800000">
                <a:off x="7766280" y="2517480"/>
                <a:ext cx="66960" cy="56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0800000">
                <a:off x="5691600" y="2517480"/>
                <a:ext cx="371880" cy="56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0800000">
                <a:off x="5575320" y="2517480"/>
                <a:ext cx="134280" cy="56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3412440" y="1956960"/>
              <a:ext cx="0" cy="44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68880" y="1956960"/>
              <a:ext cx="0" cy="44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1706040" y="3189600"/>
              <a:ext cx="0" cy="44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7770600" y="3189600"/>
              <a:ext cx="0" cy="44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06040" y="3548520"/>
              <a:ext cx="850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stealth" w="sm"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90840" y="3548520"/>
              <a:ext cx="371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stealth" w="sm"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13920" y="3548520"/>
              <a:ext cx="407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stealth" w="sm"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75240" y="3548520"/>
              <a:ext cx="426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12440" y="3121920"/>
              <a:ext cx="0" cy="447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79640" y="3121920"/>
              <a:ext cx="0" cy="447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13920" y="3121920"/>
              <a:ext cx="0" cy="447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17480" y="3121920"/>
              <a:ext cx="0" cy="447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25360" y="3121920"/>
              <a:ext cx="0" cy="447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80720" y="3121920"/>
              <a:ext cx="0" cy="447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13560" y="3121920"/>
              <a:ext cx="0" cy="447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64200" y="3121920"/>
              <a:ext cx="0" cy="447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915240" y="3121920"/>
              <a:ext cx="0" cy="447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317480" y="3548520"/>
              <a:ext cx="402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stealth" w="sm"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56720" y="3548520"/>
              <a:ext cx="850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stealth" w="sm"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56720" y="3121920"/>
              <a:ext cx="0" cy="447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725360" y="3548520"/>
              <a:ext cx="850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stealth" w="sm"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915240" y="3548520"/>
              <a:ext cx="850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stealth" w="sm"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4200" y="3548520"/>
              <a:ext cx="850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stealth" w="sm"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691960" y="3548520"/>
              <a:ext cx="371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stealth" w="sm"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23840" y="3548520"/>
              <a:ext cx="4262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13920" y="1845360"/>
              <a:ext cx="0" cy="447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580720" y="1845360"/>
              <a:ext cx="0" cy="447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44040" y="1557360"/>
              <a:ext cx="995400" cy="56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Test ar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8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913920" y="1845360"/>
              <a:ext cx="17060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stealth" w="sm"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826640" y="326556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682720" y="326556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50800" y="326556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8,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17800" y="326556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52,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44760" y="354924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52,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774680" y="326556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95520" y="326556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048440" y="326556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579640" y="326556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52,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83080" y="354924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04,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589200" y="3549240"/>
              <a:ext cx="52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04,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16000" y="3548520"/>
              <a:ext cx="51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542240" y="3548520"/>
              <a:ext cx="4262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638720" y="3121920"/>
              <a:ext cx="0" cy="447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37560" y="3121920"/>
              <a:ext cx="0" cy="447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837560" y="3548520"/>
              <a:ext cx="514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656840" y="3548520"/>
              <a:ext cx="426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706040" y="4309560"/>
              <a:ext cx="6063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stealth" w="sm"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706040" y="3953880"/>
              <a:ext cx="0" cy="447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70600" y="3953880"/>
              <a:ext cx="0" cy="447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44920" y="3975480"/>
              <a:ext cx="56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37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011400" y="1700280"/>
              <a:ext cx="3009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40520" y="1719360"/>
              <a:ext cx="3009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05440" y="3709800"/>
              <a:ext cx="3178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82400" y="3709800"/>
              <a:ext cx="3178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8D6188-325E-4767-83CD-318D4A48120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C38C7F-79E9-4D87-BE14-C84BC0B15F4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342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Tahoma"/>
              </a:rPr>
              <a:t>Roland Abspoel MSc BSc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55640" y="1341000"/>
            <a:ext cx="773424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ahoma"/>
              </a:rPr>
              <a:t>Plate Girder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755640" y="5013360"/>
            <a:ext cx="765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Delft University of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2521080" cy="19857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180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4" name=""/>
          <p:cNvGraphicFramePr/>
          <p:nvPr/>
        </p:nvGraphicFramePr>
        <p:xfrm>
          <a:off x="3348000" y="2924280"/>
          <a:ext cx="4564080" cy="2638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2924280"/>
                    <a:ext cx="456408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80E7FA-B771-4435-A9D8-54A104A6C19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63B942-DB1A-4FB4-8344-D7F61B3516E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342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Tahoma"/>
              </a:rPr>
              <a:t>Roland Abspoel MSc BSc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755640" y="1341360"/>
            <a:ext cx="7734240" cy="30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ahoma"/>
              </a:rPr>
              <a:t>Praha Workshop Fire safety desig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ctr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Tahoma"/>
              </a:rPr>
              <a:t>Related to building structure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ctr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Tahoma"/>
              </a:rPr>
              <a:t>Sensibility of Plate Girders in relation to fir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755640" y="5013360"/>
            <a:ext cx="765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Delft University of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576600" y="3429000"/>
          <a:ext cx="2212920" cy="8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6600" y="3429000"/>
                    <a:ext cx="221292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34028E-84F5-4394-95EB-F56153974BD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192CA63-E5B7-4A08-AA99-630E9C39FD1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5T08:35:24Z</dcterms:created>
  <dc:creator>Rob Oosterom</dc:creator>
  <dc:description/>
  <dc:language>en-US</dc:language>
  <cp:lastModifiedBy>František Wald</cp:lastModifiedBy>
  <cp:lastPrinted>2003-02-05T12:51:03Z</cp:lastPrinted>
  <dcterms:modified xsi:type="dcterms:W3CDTF">2006-11-18T19:17:03Z</dcterms:modified>
  <cp:revision>90</cp:revision>
  <dc:subject/>
  <dc:title>PowerPoint Presentation</dc:title>
</cp:coreProperties>
</file>